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76C-9C35-452E-938B-6A13EA5B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C87-6F86-4BF2-AC65-BBF628D4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C99-56A1-42B1-83D4-27270020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DA1-B399-4A8D-ADC7-D48699DF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027-86FF-4EAB-9048-FD59B9E0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6B0-92E0-4520-89FD-3E77EF99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034-780E-47E0-AAAC-BA364A99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30D-3393-4BB5-91D1-F5479EF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6C9-7EE8-4FCB-97EC-1D396753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71E-0383-49E0-AEE8-A3D6BBA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8C3-35F9-472A-81E4-D4EF417E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7C7-1E45-4521-9B67-50C4D31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3E83-B751-448B-AFE1-9023F3A5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1" idx="1"/>
            <a:endCxn id="100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6" idx="3"/>
            <a:endCxn id="104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2" idx="3"/>
            <a:endCxn id="96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1"/>
            <a:endCxn id="98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8" idx="1"/>
            <a:endCxn id="103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0" idx="1"/>
            <a:endCxn id="97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9-11-13T02:41:25Z</dcterms:modified>
  <cp:revision>4</cp:revision>
  <dc:subject/>
  <dc:title>ภาพนิ่ง 1</dc:title>
</cp:coreProperties>
</file>