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152063" cy="7616825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7703-D945-4FB9-973E-9C3A5440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3464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7960" y="4386240"/>
            <a:ext cx="913464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EC22-5CB8-41C2-BE1F-46B0E585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8868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07960" y="43862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188680" y="43862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2307-313D-44DE-A5D4-D5D6B002C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96760" y="17780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85200" y="17780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07960" y="43862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96760" y="43862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685200" y="43862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7A8D-41A6-4512-84D2-67CF25AF1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03E80-ACDE-40F2-B39D-1A33257F4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3464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8E501-4F01-4E42-B378-98765627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34640" cy="499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DDDA5-1526-4EE2-8F30-9A0E25AE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57520" cy="499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88680" y="1778040"/>
            <a:ext cx="4457520" cy="499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471B1-9680-4863-A5D4-044573C6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08D1B-9335-4B3A-9D57-3D7FE989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07960" y="253800"/>
            <a:ext cx="913464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A9773-5AF0-426A-B3DE-D6B9FC18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88680" y="1778040"/>
            <a:ext cx="4457520" cy="499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7960" y="43862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86B43-2E05-4D17-BFB8-6860F3BF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3464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3F8B-7FFB-40DB-A46B-06B80BEE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57520" cy="499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8868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88680" y="43862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152AC-8593-4788-A383-36BA59A1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8868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7960" y="4386240"/>
            <a:ext cx="913464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5C622-C368-4FA7-A808-7ACE947C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3464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7960" y="4386240"/>
            <a:ext cx="913464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04244-7830-4C45-8CF7-C8D3D20B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8868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7960" y="43862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188680" y="43862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3400D-7220-4314-B301-2416C55CD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96760" y="17780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685200" y="17780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7960" y="43862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96760" y="43862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685200" y="43862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7B842-E538-4805-ABFF-D53E84913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34640" cy="499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1BCA-E963-444B-AD82-99456142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57520" cy="499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8680" y="1778040"/>
            <a:ext cx="4457520" cy="499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E707-EBB1-44CA-B8D6-3FCD15C5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E449-2AD5-4C50-917E-FFA3E2C7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507960" y="253800"/>
            <a:ext cx="913464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7D3C-FBD4-4CBF-8688-13FA4432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88680" y="1778040"/>
            <a:ext cx="4457520" cy="499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7960" y="43862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AEFA-478E-4A08-ACFD-B3DE01BE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57520" cy="499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8868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88680" y="43862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4BF9-9055-41C2-BF38-4FB16FD9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8868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07960" y="4386240"/>
            <a:ext cx="913464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A86A-4E75-4210-A96B-5141A7D5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150200" cy="7616160"/>
            <a:chOff x="0" y="0"/>
            <a:chExt cx="10150200" cy="7616160"/>
          </a:xfrm>
        </p:grpSpPr>
        <p:sp>
          <p:nvSpPr>
            <p:cNvPr id="1" name=""/>
            <p:cNvSpPr/>
            <p:nvPr/>
          </p:nvSpPr>
          <p:spPr>
            <a:xfrm>
              <a:off x="0" y="5416200"/>
              <a:ext cx="10150200" cy="219996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0150200" cy="541620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935760" y="6956280"/>
            <a:ext cx="3214800" cy="6764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686640"/>
            <a:ext cx="8711280" cy="950040"/>
            <a:chOff x="0" y="6686640"/>
            <a:chExt cx="8711280" cy="950040"/>
          </a:xfrm>
        </p:grpSpPr>
        <p:sp>
          <p:nvSpPr>
            <p:cNvPr id="5" name=""/>
            <p:cNvSpPr/>
            <p:nvPr/>
          </p:nvSpPr>
          <p:spPr>
            <a:xfrm>
              <a:off x="2622240" y="6686640"/>
              <a:ext cx="5709240" cy="94320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4380840" y="6686640"/>
              <a:ext cx="4330440" cy="950040"/>
              <a:chOff x="4380840" y="6686640"/>
              <a:chExt cx="4330440" cy="950040"/>
            </a:xfrm>
          </p:grpSpPr>
          <p:sp>
            <p:nvSpPr>
              <p:cNvPr id="7" name=""/>
              <p:cNvSpPr/>
              <p:nvPr/>
            </p:nvSpPr>
            <p:spPr>
              <a:xfrm>
                <a:off x="6956640" y="6698880"/>
                <a:ext cx="1754640" cy="9378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717080" y="6686640"/>
                <a:ext cx="327600" cy="69516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338800" y="6864120"/>
                <a:ext cx="666000" cy="47664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392520" y="6816600"/>
                <a:ext cx="273240" cy="1299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380840" y="6804360"/>
                <a:ext cx="73800" cy="14220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686640"/>
              <a:ext cx="7006320" cy="94176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95160" y="6688080"/>
            <a:ext cx="6311880" cy="942840"/>
            <a:chOff x="695160" y="6688080"/>
            <a:chExt cx="6311880" cy="942840"/>
          </a:xfrm>
        </p:grpSpPr>
        <p:sp>
          <p:nvSpPr>
            <p:cNvPr id="14" name=""/>
            <p:cNvSpPr/>
            <p:nvPr/>
          </p:nvSpPr>
          <p:spPr>
            <a:xfrm>
              <a:off x="2106720" y="6688080"/>
              <a:ext cx="643320" cy="51264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423600" y="6751440"/>
              <a:ext cx="3583440" cy="87948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224520" y="6740640"/>
              <a:ext cx="124920" cy="10728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05520" y="6774120"/>
              <a:ext cx="283680" cy="28872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243080" y="6795360"/>
              <a:ext cx="103680" cy="10728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95160" y="6719400"/>
              <a:ext cx="431640" cy="364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34640" cy="499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25480" indent="-3175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776240" indent="-25380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284560" indent="-25416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284560" indent="-2541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284560" indent="-2541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600" y="6940080"/>
            <a:ext cx="2368440" cy="506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th-TH" sz="13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th-TH" sz="1300" spc="-1" strike="noStrike">
                <a:solidFill>
                  <a:srgbClr val="ffffff"/>
                </a:solidFill>
                <a:latin typeface="Arial"/>
                <a:ea typeface="Angsana New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468600" y="6940080"/>
            <a:ext cx="3213360" cy="506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ngsana New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7273800" y="6940080"/>
            <a:ext cx="2368800" cy="506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07E230CB-F6FA-482F-82A7-CB4063D55202}" type="slidenum">
              <a:rPr b="0" lang="en-US" sz="1300" spc="-1" strike="noStrike">
                <a:solidFill>
                  <a:srgbClr val="ffffff"/>
                </a:solidFill>
                <a:latin typeface="Arial"/>
                <a:ea typeface="Angsana New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2320"/>
            <a:ext cx="10150200" cy="7616160"/>
            <a:chOff x="-6480" y="22320"/>
            <a:chExt cx="10150200" cy="7616160"/>
          </a:xfrm>
        </p:grpSpPr>
        <p:sp>
          <p:nvSpPr>
            <p:cNvPr id="62" name=""/>
            <p:cNvSpPr/>
            <p:nvPr/>
          </p:nvSpPr>
          <p:spPr>
            <a:xfrm>
              <a:off x="-6480" y="5438520"/>
              <a:ext cx="10150200" cy="219996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2320"/>
              <a:ext cx="10150200" cy="541620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929280" y="6962760"/>
            <a:ext cx="3214800" cy="6764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702480"/>
            <a:ext cx="8707680" cy="944280"/>
            <a:chOff x="-1440" y="6702480"/>
            <a:chExt cx="8707680" cy="944280"/>
          </a:xfrm>
        </p:grpSpPr>
        <p:sp>
          <p:nvSpPr>
            <p:cNvPr id="66" name=""/>
            <p:cNvSpPr/>
            <p:nvPr/>
          </p:nvSpPr>
          <p:spPr>
            <a:xfrm>
              <a:off x="2620800" y="6702480"/>
              <a:ext cx="5709240" cy="9442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4379400" y="6702480"/>
              <a:ext cx="4326840" cy="943920"/>
              <a:chOff x="4379400" y="6702480"/>
              <a:chExt cx="4326840" cy="943920"/>
            </a:xfrm>
          </p:grpSpPr>
          <p:sp>
            <p:nvSpPr>
              <p:cNvPr id="68" name=""/>
              <p:cNvSpPr/>
              <p:nvPr/>
            </p:nvSpPr>
            <p:spPr>
              <a:xfrm>
                <a:off x="6955200" y="6714720"/>
                <a:ext cx="1751040" cy="93168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715640" y="6702480"/>
                <a:ext cx="327600" cy="69588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337360" y="6879960"/>
                <a:ext cx="666000" cy="47736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391080" y="6832440"/>
                <a:ext cx="273240" cy="1299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379400" y="6820200"/>
                <a:ext cx="73800" cy="14256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702480"/>
              <a:ext cx="7006320" cy="9428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95160" y="6688080"/>
            <a:ext cx="6311880" cy="942840"/>
            <a:chOff x="695160" y="6688080"/>
            <a:chExt cx="6311880" cy="942840"/>
          </a:xfrm>
        </p:grpSpPr>
        <p:sp>
          <p:nvSpPr>
            <p:cNvPr id="75" name=""/>
            <p:cNvSpPr/>
            <p:nvPr/>
          </p:nvSpPr>
          <p:spPr>
            <a:xfrm>
              <a:off x="2106720" y="6688080"/>
              <a:ext cx="643320" cy="51264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23600" y="6751440"/>
              <a:ext cx="3583440" cy="87948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24520" y="6740640"/>
              <a:ext cx="124920" cy="10728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505520" y="6774120"/>
              <a:ext cx="283680" cy="28872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43080" y="6795360"/>
              <a:ext cx="103680" cy="10728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5160" y="6719400"/>
              <a:ext cx="431640" cy="364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7960" y="1608120"/>
            <a:ext cx="9134640" cy="192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507600" y="6940080"/>
            <a:ext cx="2368440" cy="506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th-TH" sz="13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th-TH" sz="1300" spc="-1" strike="noStrike">
                <a:solidFill>
                  <a:srgbClr val="ffffff"/>
                </a:solidFill>
                <a:latin typeface="Arial"/>
                <a:ea typeface="Angsana New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7273800" y="6940080"/>
            <a:ext cx="2368800" cy="506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4DC17032-280D-4506-9027-3AAE0D39C2E6}" type="slidenum">
              <a:rPr b="0" lang="en-US" sz="1300" spc="-1" strike="noStrike">
                <a:solidFill>
                  <a:srgbClr val="ffffff"/>
                </a:solidFill>
                <a:latin typeface="Arial"/>
                <a:ea typeface="Angsana New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468600" y="6940080"/>
            <a:ext cx="3213360" cy="506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ngsana New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396360" y="5248440"/>
            <a:ext cx="0" cy="215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4880" y="212760"/>
            <a:ext cx="9480600" cy="11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2400" spc="-1" strike="noStrike">
                <a:solidFill>
                  <a:srgbClr val="ff33cc"/>
                </a:solidFill>
                <a:latin typeface="Cordia New"/>
                <a:cs typeface="LilyUPC"/>
              </a:rPr>
              <a:t>แผนภูมิแสดงความเชื่อมโยงยุทธศาสตร์การจัดสรรงบประมาณ ผลผลิต และงบประมาณ  ปี </a:t>
            </a:r>
            <a:r>
              <a:rPr b="1" lang="th-TH" sz="2400" spc="-1" strike="noStrike">
                <a:solidFill>
                  <a:srgbClr val="ff33cc"/>
                </a:solidFill>
                <a:latin typeface="Cordia New"/>
                <a:ea typeface="LilyUPC"/>
              </a:rPr>
              <a:t>255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2400" spc="-1" strike="noStrike">
                <a:solidFill>
                  <a:srgbClr val="ff33cc"/>
                </a:solidFill>
                <a:latin typeface="Cordia New"/>
                <a:cs typeface="LilyUPC"/>
              </a:rPr>
              <a:t>กรมสนับสนุนบริการสุขภา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3760" y="920880"/>
            <a:ext cx="1504800" cy="668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Angsana New"/>
                <a:cs typeface="Angsana New"/>
              </a:rPr>
              <a:t>ยุทธศาสตร์การ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Angsana New"/>
                <a:cs typeface="Angsana New"/>
              </a:rPr>
              <a:t>จัดสรรงบประมาณ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2200" y="1474920"/>
            <a:ext cx="1295640" cy="217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32400" tIns="16200" bIns="16200" anchor="t">
            <a:spAutoFit/>
          </a:bodyPr>
          <a:p>
            <a:pPr algn="ctr">
              <a:lnSpc>
                <a:spcPct val="76000"/>
              </a:lnSpc>
              <a:tabLst>
                <a:tab algn="l" pos="0"/>
                <a:tab algn="l" pos="325440"/>
                <a:tab algn="l" pos="650880"/>
                <a:tab algn="l" pos="976320"/>
                <a:tab algn="l" pos="1301760"/>
                <a:tab algn="l" pos="1627200"/>
                <a:tab algn="l" pos="1952640"/>
                <a:tab algn="l" pos="2278080"/>
                <a:tab algn="l" pos="2603520"/>
                <a:tab algn="l" pos="2928960"/>
                <a:tab algn="l" pos="3254400"/>
                <a:tab algn="l" pos="3579840"/>
                <a:tab algn="l" pos="3905280"/>
                <a:tab algn="l" pos="4230720"/>
                <a:tab algn="l" pos="4556160"/>
                <a:tab algn="l" pos="4881600"/>
                <a:tab algn="l" pos="5207040"/>
                <a:tab algn="l" pos="5532480"/>
                <a:tab algn="l" pos="5857920"/>
                <a:tab algn="l" pos="6183360"/>
                <a:tab algn="l" pos="65088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Angsana New"/>
                <a:cs typeface="Angsana New"/>
              </a:rPr>
              <a:t>แผนงาน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2040" y="1397160"/>
            <a:ext cx="4559400" cy="380880"/>
          </a:xfrm>
          <a:prstGeom prst="roundRect">
            <a:avLst>
              <a:gd name="adj" fmla="val 10722"/>
            </a:avLst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5440"/>
                <a:tab algn="l" pos="650880"/>
                <a:tab algn="l" pos="976320"/>
                <a:tab algn="l" pos="1301760"/>
                <a:tab algn="l" pos="1627200"/>
                <a:tab algn="l" pos="1952640"/>
                <a:tab algn="l" pos="2278080"/>
                <a:tab algn="l" pos="2603520"/>
                <a:tab algn="l" pos="2928960"/>
                <a:tab algn="l" pos="3254400"/>
                <a:tab algn="l" pos="3579840"/>
                <a:tab algn="l" pos="3905280"/>
                <a:tab algn="l" pos="4230720"/>
                <a:tab algn="l" pos="4556160"/>
                <a:tab algn="l" pos="4881600"/>
                <a:tab algn="l" pos="5207040"/>
                <a:tab algn="l" pos="5532480"/>
                <a:tab algn="l" pos="5857920"/>
                <a:tab algn="l" pos="6183360"/>
                <a:tab algn="l" pos="6508800"/>
              </a:tabLst>
            </a:pPr>
            <a:r>
              <a:rPr b="1" lang="th-TH" sz="1400" spc="-1" strike="noStrike">
                <a:solidFill>
                  <a:srgbClr val="463416"/>
                </a:solidFill>
                <a:latin typeface="Angsana New"/>
                <a:ea typeface="Angsana New"/>
              </a:rPr>
              <a:t>3.3  </a:t>
            </a:r>
            <a:r>
              <a:rPr b="1" lang="th-TH" sz="1400" spc="-1" strike="noStrike">
                <a:solidFill>
                  <a:srgbClr val="463416"/>
                </a:solidFill>
                <a:latin typeface="Angsana New"/>
                <a:cs typeface="Angsana New"/>
              </a:rPr>
              <a:t>ด้านสาธารณสุ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78560" y="1397160"/>
            <a:ext cx="3489480" cy="380880"/>
          </a:xfrm>
          <a:prstGeom prst="roundRect">
            <a:avLst>
              <a:gd name="adj" fmla="val 10722"/>
            </a:avLst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5440"/>
                <a:tab algn="l" pos="650880"/>
                <a:tab algn="l" pos="976320"/>
                <a:tab algn="l" pos="1301760"/>
                <a:tab algn="l" pos="1627200"/>
                <a:tab algn="l" pos="1952640"/>
                <a:tab algn="l" pos="2278080"/>
                <a:tab algn="l" pos="2603520"/>
                <a:tab algn="l" pos="2928960"/>
                <a:tab algn="l" pos="3254400"/>
                <a:tab algn="l" pos="3579840"/>
                <a:tab algn="l" pos="3905280"/>
                <a:tab algn="l" pos="4230720"/>
                <a:tab algn="l" pos="4556160"/>
                <a:tab algn="l" pos="4881600"/>
                <a:tab algn="l" pos="5207040"/>
                <a:tab algn="l" pos="5532480"/>
                <a:tab algn="l" pos="5857920"/>
                <a:tab algn="l" pos="6183360"/>
                <a:tab algn="l" pos="6508800"/>
              </a:tabLst>
            </a:pPr>
            <a:r>
              <a:rPr b="1" lang="th-TH" sz="1400" spc="-1" strike="noStrike">
                <a:solidFill>
                  <a:srgbClr val="463416"/>
                </a:solidFill>
                <a:latin typeface="Angsana New"/>
                <a:ea typeface="Angsana New"/>
              </a:rPr>
              <a:t>3.5 </a:t>
            </a:r>
            <a:r>
              <a:rPr b="1" lang="th-TH" sz="1400" spc="-1" strike="noStrike">
                <a:solidFill>
                  <a:srgbClr val="463416"/>
                </a:solidFill>
                <a:latin typeface="Angsana New"/>
                <a:cs typeface="Angsana New"/>
              </a:rPr>
              <a:t>สวัสดิการสังคมและความมั่นคงของมนุษย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3760" y="1854360"/>
            <a:ext cx="906480" cy="669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72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ffff00"/>
                </a:solidFill>
                <a:latin typeface="Angsana New"/>
                <a:cs typeface="Angsana New"/>
              </a:rPr>
              <a:t>เป้าหมายการให้บริการกระทรว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85920" y="1854360"/>
            <a:ext cx="297828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50000">
                <a:srgbClr val="fefefe"/>
              </a:gs>
              <a:gs pos="100000">
                <a:srgbClr val="ff99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t">
            <a:noAutofit/>
          </a:bodyPr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ngsana New"/>
                <a:ea typeface="Angsana New"/>
              </a:rPr>
              <a:t>3. </a:t>
            </a:r>
            <a:r>
              <a:rPr b="1" lang="th-TH" sz="12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ชาชนสามารถเข้าถึงหลักประกันสุขภาพ ได้รับบริการ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ุขภาพ และบริโภคผลิตภัณฑ์สุขภาพที่มีคุณภาพมาตรฐา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ngsana New"/>
                <a:cs typeface="Angsana New"/>
              </a:rPr>
              <a:t>อย่างทั่วถึงและเป็นธรรม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4200" y="1854360"/>
            <a:ext cx="2809800" cy="609480"/>
          </a:xfrm>
          <a:prstGeom prst="roundRect">
            <a:avLst>
              <a:gd name="adj" fmla="val 14704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t">
            <a:noAutofit/>
          </a:bodyPr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ngsana New"/>
                <a:ea typeface="Angsana New"/>
              </a:rPr>
              <a:t>5. </a:t>
            </a:r>
            <a:r>
              <a:rPr b="1" lang="th-TH" sz="12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ชาชนมีพฤติกรรมสุขภาพที่ถูกต้อง สามารถลดภาระโร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ngsana New"/>
                <a:cs typeface="Angsana New"/>
              </a:rPr>
              <a:t>ภัยคุกคามและความรุนแรงด้านสุขภาพได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74000" y="1854360"/>
            <a:ext cx="2841480" cy="609480"/>
          </a:xfrm>
          <a:prstGeom prst="roundRect">
            <a:avLst>
              <a:gd name="adj" fmla="val 14704"/>
            </a:avLst>
          </a:prstGeom>
          <a:gradFill rotWithShape="0">
            <a:gsLst>
              <a:gs pos="0">
                <a:srgbClr val="cc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t">
            <a:noAutofit/>
          </a:bodyPr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ea typeface="Angsana New"/>
              </a:rPr>
              <a:t>2. </a:t>
            </a: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ชาชน ผู้เสพและผู้ติดยาเสพติดได้รับการบำบัดรักษา ฟื้นฟู เฝ้าระวัง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วบคุมการใช้วัตถุเสพติดให้สามารถดำเนินชีวิตได้ตามปกติในสังคม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2200" y="2692440"/>
            <a:ext cx="681120" cy="515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72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ffff00"/>
                </a:solidFill>
                <a:latin typeface="Angsana New"/>
                <a:cs typeface="Angsana New"/>
              </a:rPr>
              <a:t>กลยุทธ์กระทรว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2606760"/>
            <a:ext cx="2637000" cy="76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50000">
                <a:srgbClr val="fefefe"/>
              </a:gs>
              <a:gs pos="100000">
                <a:srgbClr val="ff99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t">
            <a:noAutofit/>
          </a:bodyPr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ea typeface="Angsana New"/>
              </a:rPr>
              <a:t>4. </a:t>
            </a: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Angsana New"/>
              </a:rPr>
              <a:t>พัฒนาระบบบริการทางการแพทย์ สาธารณสุขและผลิตภัณฑ์สุขภาพ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Angsana New"/>
              </a:rPr>
              <a:t>ให้มีคุณภาพมาตรฐาน สร้างความมั่นใจให้กับประชาชน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67280" y="2540160"/>
            <a:ext cx="2211120" cy="914400"/>
          </a:xfrm>
          <a:prstGeom prst="roundRect">
            <a:avLst>
              <a:gd name="adj" fmla="val 14704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t">
            <a:noAutofit/>
          </a:bodyPr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ea typeface="Angsana New"/>
              </a:rPr>
              <a:t>6. </a:t>
            </a: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สริมสร้างปัจจัยพื้นฐานของการมีพฤติกรรมสุขภาพที่ถูกต้อง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ละพัฒนาประสิทธิภาพเครือข่ายระบบเฝ้าระวัง การป้องกัน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ควบคุมโรคและภัยสุขภาพ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99280" y="2540160"/>
            <a:ext cx="2017800" cy="914400"/>
          </a:xfrm>
          <a:prstGeom prst="roundRect">
            <a:avLst>
              <a:gd name="adj" fmla="val 14704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t">
            <a:noAutofit/>
          </a:bodyPr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ea typeface="Angsana New"/>
              </a:rPr>
              <a:t>7. </a:t>
            </a: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่งเสริมและพัฒนาศักยภาพของอาสาสมัครแล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Angsana New"/>
              </a:rPr>
              <a:t>ภาคีเครือข่ายในการดำเนินกิจกรรมด้านสุขภาพ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Angsana New"/>
              </a:rPr>
              <a:t>โดยการมีส่วนร่วมจากทุกภาคส่วน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88360" y="2540160"/>
            <a:ext cx="1527120" cy="914400"/>
          </a:xfrm>
          <a:prstGeom prst="roundRect">
            <a:avLst>
              <a:gd name="adj" fmla="val 14704"/>
            </a:avLst>
          </a:prstGeom>
          <a:gradFill rotWithShape="0">
            <a:gsLst>
              <a:gs pos="0">
                <a:srgbClr val="cc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t">
            <a:noAutofit/>
          </a:bodyPr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ea typeface="Angsana New"/>
              </a:rPr>
              <a:t>2. </a:t>
            </a: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สริมสร้างระบบการเฝ้าระวัง ควบคุม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้องกัน บำบัดรักษาและฟื้นฟูสภาพของ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ชาชนผู้เสพและผู้ติดยาเสพติด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Angsana New"/>
              </a:rPr>
              <a:t>ให้มีประสิทธิภาพและยั่งยืน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4960" y="3454560"/>
            <a:ext cx="765360" cy="65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82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200" spc="-1" strike="noStrike">
                <a:solidFill>
                  <a:srgbClr val="ffff00"/>
                </a:solidFill>
                <a:latin typeface="Angsana New"/>
                <a:cs typeface="Angsana New"/>
              </a:rPr>
              <a:t>เป้าหมายการให้บริการหน่วยงา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00240" y="3530520"/>
            <a:ext cx="2100240" cy="4572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สถานบริการสุขภาพ  ภาครัฐ  เอกชน  และสถานประกอบการธุรกิจบริการสุขภาพมีคุณภาพมาตรฐาน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48680" y="3530520"/>
            <a:ext cx="1635120" cy="4572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cc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ctr">
            <a:noAutofit/>
          </a:bodyPr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ระบบรายงาน ระบบติดตามและเฝ้าระวัง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ปัญหายาเสพติดมีคุณภาพ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28920" y="3530520"/>
            <a:ext cx="1432080" cy="4572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ผู้บริโภคมีความรู้ความเข้าใจ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ในการใช้บริการสุขภาพ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30920" y="3530520"/>
            <a:ext cx="1460520" cy="4572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ประชาชนมีความรู้ที่จำเป็นแล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พฤติกรรมที่ถูกต้องในการดูแลสุขภาพ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78560" y="3530520"/>
            <a:ext cx="1701720" cy="4572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อาสาสมัครสาธารณสุขประจำหมู่บ้าน ภาคี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เครือข่ายมีส่วนร่วมในการจัดการสุขภาพชุมชน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9600" y="4172040"/>
            <a:ext cx="636480" cy="361800"/>
          </a:xfrm>
          <a:prstGeom prst="rect">
            <a:avLst/>
          </a:prstGeom>
          <a:noFill/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200" spc="-1" strike="noStrike">
                <a:solidFill>
                  <a:srgbClr val="ffff00"/>
                </a:solidFill>
                <a:latin typeface="Angsana New"/>
                <a:cs typeface="Angsana New"/>
              </a:rPr>
              <a:t>กลยุทธ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200" spc="-1" strike="noStrike">
                <a:solidFill>
                  <a:srgbClr val="ffff00"/>
                </a:solidFill>
                <a:latin typeface="Angsana New"/>
                <a:cs typeface="Angsana New"/>
              </a:rPr>
              <a:t>กรม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30320" y="4064040"/>
            <a:ext cx="1703520" cy="5634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ส่งเสริม สนับสนุน พัฒนา และควบคุม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กำกับระบบบริการสุขภาพ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ให้ได้คุณภาพมาตรฐาน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76680" y="4064040"/>
            <a:ext cx="1147680" cy="5634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พัฒนาองค์ความรู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ด้านระบบบริการสุขภาพ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26080" y="4064040"/>
            <a:ext cx="1387440" cy="5634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เสริมสร้างจิตสำนึกความรู้และทักษ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ที่จำเป็นแก่ประชาชนให้มี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พฤติกรรมสุขภาพที่เหมาะสม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67520" y="4064040"/>
            <a:ext cx="1452600" cy="5634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ส่งเสริมสนับสนุนองค์กรอาสาสมัคร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สาธารณสุขประจำหมู่บ้าน </a:t>
            </a:r>
            <a:r>
              <a:rPr b="1" lang="th-TH" sz="900" spc="-1" strike="noStrike">
                <a:solidFill>
                  <a:srgbClr val="463416"/>
                </a:solidFill>
                <a:latin typeface="Angsana New"/>
                <a:ea typeface="Angsana New"/>
              </a:rPr>
              <a:t>(</a:t>
            </a: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อสม</a:t>
            </a:r>
            <a:r>
              <a:rPr b="1" lang="th-TH" sz="900" spc="-1" strike="noStrike">
                <a:solidFill>
                  <a:srgbClr val="463416"/>
                </a:solidFill>
                <a:latin typeface="Angsana New"/>
                <a:ea typeface="Angsana New"/>
              </a:rPr>
              <a:t>.) </a:t>
            </a: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องค์กร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ปกครองส่วนท้องถิ่น และ ภาคีเครือข่าย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ในการจัดการสุขภาพชุมชน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604360" y="4064040"/>
            <a:ext cx="1311120" cy="5634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cc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t">
            <a:noAutofit/>
          </a:bodyPr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ส่งเสริมพัฒนาระบบรายงาน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ระบบติดตามและเฝ้าระวังปัญหา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ยาเสพติด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11480" y="4064040"/>
            <a:ext cx="1530360" cy="5634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ส่งเสริมความรู้ ความเข้าใจในการใช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บริการสุขภาพระหว่างผู้ให้และผู้รั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บริการสุขภาพ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4745160"/>
            <a:ext cx="1368720" cy="71892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สถานบริการสุขภาพ  ภาครัฐ  เอกชน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และสถานประกอบการธุรกิจบริการ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สุขภาพได้รับการส่งเสริม พัฒนา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สนับสนุน ประสาน ควบคุม กำกับ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คุณภาพมาตรฐานบริการสุขภาพ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62200" y="4746600"/>
            <a:ext cx="1152720" cy="57456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ผลงานการวิจัย พัฒนาองค์ความรู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และเทคโนโลยีด้านระบบบริการ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สุขภาพ สุขศึกษาและสุขภาพภาค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ประชาชน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6880" y="4826160"/>
            <a:ext cx="447840" cy="592560"/>
          </a:xfrm>
          <a:prstGeom prst="rect">
            <a:avLst/>
          </a:prstGeom>
          <a:noFill/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ffff00"/>
                </a:solidFill>
                <a:latin typeface="Angsana New"/>
                <a:cs typeface="Angsana New"/>
              </a:rPr>
              <a:t>ผล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ffff00"/>
                </a:solidFill>
                <a:latin typeface="Angsana New"/>
                <a:cs typeface="Angsana New"/>
              </a:rPr>
              <a:t>ผลิต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4746600"/>
            <a:ext cx="1409760" cy="4302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ประชาชนกลุ่มเป้าหมายได้รับการถ่ายทอด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ความรู้ด้านสุขภาพเพื่อนำไปสู่การ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ปรับเปลี่ยนพฤติกรรมสุขภาพ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520120" y="4746600"/>
            <a:ext cx="1447920" cy="53352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cc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t">
            <a:noAutofit/>
          </a:bodyPr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ระบบรายงาน ระบบติดตามและเฝ้าระวัง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ปัญหายาเสพติดได้รับการปรับปรุงและ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พัฒนาเพื่อให้ได้ข้อมูลที่มีคุณภาพมาตรฐาน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4746600"/>
            <a:ext cx="1006200" cy="35892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ผลงานการส่งเสริมคุ้มครอง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ผู้บริโภคด้านบริการสุขภาพ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26360" y="4746600"/>
            <a:ext cx="1108080" cy="71748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อาสาสมัครสาธารณสุขประจำ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หมู่บ้าน องค์กรปกครอง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ส่วนท้องถิ่น ภาคีเครือข่ายได้รับ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การส่งเสริมและสนับสนุนให้มี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Angsana New"/>
              </a:rPr>
              <a:t>กิจกรรมด้านสุขภาพ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288200" y="5724360"/>
            <a:ext cx="569880" cy="1684440"/>
          </a:xfrm>
          <a:custGeom>
            <a:avLst/>
            <a:gdLst>
              <a:gd name="textAreaLeft" fmla="*/ 12600 w 569880"/>
              <a:gd name="textAreaRight" fmla="*/ 557280 w 569880"/>
              <a:gd name="textAreaTop" fmla="*/ 12600 h 1684440"/>
              <a:gd name="textAreaBottom" fmla="*/ 1671840 h 1684440"/>
            </a:gdLst>
            <a:ahLst/>
            <a:rect l="textAreaLeft" t="textAreaTop" r="textAreaRight" b="textAreaBottom"/>
            <a:pathLst>
              <a:path w="21600" h="63818">
                <a:moveTo>
                  <a:pt x="1637" y="0"/>
                </a:moveTo>
                <a:arcTo wR="1637" hR="1637" stAng="16200000" swAng="-5400000"/>
                <a:lnTo>
                  <a:pt x="0" y="62181"/>
                </a:lnTo>
                <a:arcTo wR="1637" hR="1637" stAng="10800000" swAng="-5400000"/>
                <a:lnTo>
                  <a:pt x="19963" y="63818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463416"/>
                </a:solidFill>
                <a:latin typeface="Angsana New"/>
                <a:cs typeface="Angsana New"/>
              </a:rPr>
              <a:t>ส่งเสริมแล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463416"/>
                </a:solidFill>
                <a:latin typeface="Angsana New"/>
                <a:cs typeface="Angsana New"/>
              </a:rPr>
              <a:t>สนับสนุ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463416"/>
                </a:solidFill>
                <a:latin typeface="Angsana New"/>
                <a:cs typeface="Angsana New"/>
              </a:rPr>
              <a:t>องค์ก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463416"/>
                </a:solidFill>
                <a:latin typeface="Angsana New"/>
                <a:cs typeface="Angsana New"/>
              </a:rPr>
              <a:t>อาสาสมัค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463416"/>
                </a:solidFill>
                <a:latin typeface="Angsana New"/>
                <a:cs typeface="Angsana New"/>
              </a:rPr>
              <a:t>สาธารณสุ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463416"/>
                </a:solidFill>
                <a:latin typeface="Angsana New"/>
                <a:cs typeface="Angsana New"/>
              </a:rPr>
              <a:t>ประจ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463416"/>
                </a:solidFill>
                <a:latin typeface="Angsana New"/>
                <a:cs typeface="Angsana New"/>
              </a:rPr>
              <a:t>หมู่บ้าน </a:t>
            </a:r>
            <a:r>
              <a:rPr b="1" lang="th-TH" sz="800" spc="-1" strike="noStrike">
                <a:solidFill>
                  <a:srgbClr val="463416"/>
                </a:solidFill>
                <a:latin typeface="Angsana New"/>
                <a:ea typeface="Angsana New"/>
              </a:rPr>
              <a:t>(</a:t>
            </a:r>
            <a:r>
              <a:rPr b="1" lang="th-TH" sz="800" spc="-1" strike="noStrike">
                <a:solidFill>
                  <a:srgbClr val="463416"/>
                </a:solidFill>
                <a:latin typeface="Angsana New"/>
                <a:cs typeface="Angsana New"/>
              </a:rPr>
              <a:t>อสม</a:t>
            </a:r>
            <a:r>
              <a:rPr b="1" lang="th-TH" sz="800" spc="-1" strike="noStrike">
                <a:solidFill>
                  <a:srgbClr val="463416"/>
                </a:solidFill>
                <a:latin typeface="Angsana New"/>
                <a:ea typeface="Angsana New"/>
              </a:rPr>
              <a:t>.)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463416"/>
                </a:solidFill>
                <a:latin typeface="Angsana New"/>
                <a:cs typeface="Angsana New"/>
              </a:rPr>
              <a:t>องค์ก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463416"/>
                </a:solidFill>
                <a:latin typeface="Angsana New"/>
                <a:cs typeface="Angsana New"/>
              </a:rPr>
              <a:t>ปกครองส่ว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463416"/>
                </a:solidFill>
                <a:latin typeface="Angsana New"/>
                <a:cs typeface="Angsana New"/>
              </a:rPr>
              <a:t>ท้องถิ่น ภาคี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463416"/>
                </a:solidFill>
                <a:latin typeface="Angsana New"/>
                <a:cs typeface="Angsana New"/>
              </a:rPr>
              <a:t>เครือข่ายใ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463416"/>
                </a:solidFill>
                <a:latin typeface="Angsana New"/>
                <a:cs typeface="Angsana New"/>
              </a:rPr>
              <a:t>การจัด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463416"/>
                </a:solidFill>
                <a:latin typeface="Angsana New"/>
                <a:cs typeface="Angsana New"/>
              </a:rPr>
              <a:t>กิจกรรม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463416"/>
                </a:solidFill>
                <a:latin typeface="Angsana New"/>
                <a:cs typeface="Angsana New"/>
              </a:rPr>
              <a:t>สุข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30920" y="5722920"/>
            <a:ext cx="486000" cy="1541520"/>
          </a:xfrm>
          <a:custGeom>
            <a:avLst/>
            <a:gdLst>
              <a:gd name="textAreaLeft" fmla="*/ 10440 w 486000"/>
              <a:gd name="textAreaRight" fmla="*/ 475560 w 486000"/>
              <a:gd name="textAreaTop" fmla="*/ 10440 h 1541520"/>
              <a:gd name="textAreaBottom" fmla="*/ 1531080 h 1541520"/>
            </a:gdLst>
            <a:ahLst/>
            <a:rect l="textAreaLeft" t="textAreaTop" r="textAreaRight" b="textAreaBottom"/>
            <a:pathLst>
              <a:path w="21600" h="68477">
                <a:moveTo>
                  <a:pt x="1637" y="0"/>
                </a:moveTo>
                <a:arcTo wR="1637" hR="1637" stAng="16200000" swAng="-5400000"/>
                <a:lnTo>
                  <a:pt x="0" y="66840"/>
                </a:lnTo>
                <a:arcTo wR="1637" hR="1637" stAng="10800000" swAng="-5400000"/>
                <a:lnTo>
                  <a:pt x="19963" y="68477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ถ่ายทอด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วามรู้ด้า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ุข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ู่ประชาช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ลุ่มเป้าหมาย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945640" y="5464080"/>
            <a:ext cx="938160" cy="47016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cc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463416"/>
                </a:solidFill>
                <a:latin typeface="Angsana New"/>
                <a:cs typeface="Angsana New"/>
              </a:rPr>
              <a:t>พัฒนาระบบรายงา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463416"/>
                </a:solidFill>
                <a:latin typeface="Angsana New"/>
                <a:ea typeface="Angsana New"/>
              </a:rPr>
              <a:t> </a:t>
            </a:r>
            <a:r>
              <a:rPr b="1" lang="th-TH" sz="800" spc="-1" strike="noStrike">
                <a:solidFill>
                  <a:srgbClr val="463416"/>
                </a:solidFill>
                <a:latin typeface="Angsana New"/>
                <a:cs typeface="Angsana New"/>
              </a:rPr>
              <a:t>ระบบติดตาม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463416"/>
                </a:solidFill>
                <a:latin typeface="Angsana New"/>
                <a:cs typeface="Angsana New"/>
              </a:rPr>
              <a:t>และเฝ้าระวังปัญหายาเสพติด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4960" y="5897520"/>
            <a:ext cx="425520" cy="950400"/>
          </a:xfrm>
          <a:prstGeom prst="rect">
            <a:avLst/>
          </a:prstGeom>
          <a:noFill/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ffff00"/>
                </a:solidFill>
                <a:latin typeface="Angsana New"/>
                <a:cs typeface="Angsana New"/>
              </a:rPr>
              <a:t>กิจ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ffff00"/>
                </a:solidFill>
                <a:latin typeface="Angsana New"/>
                <a:cs typeface="Angsana New"/>
              </a:rPr>
              <a:t>กรรม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ffff00"/>
                </a:solidFill>
                <a:latin typeface="Angsana New"/>
                <a:cs typeface="Angsana New"/>
              </a:rPr>
              <a:t>หลั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54200" y="5724360"/>
            <a:ext cx="505080" cy="1468440"/>
          </a:xfrm>
          <a:custGeom>
            <a:avLst/>
            <a:gdLst>
              <a:gd name="textAreaLeft" fmla="*/ 11160 w 505080"/>
              <a:gd name="textAreaRight" fmla="*/ 493920 w 505080"/>
              <a:gd name="textAreaTop" fmla="*/ 11160 h 1468440"/>
              <a:gd name="textAreaBottom" fmla="*/ 1457280 h 1468440"/>
            </a:gdLst>
            <a:ahLst/>
            <a:rect l="textAreaLeft" t="textAreaTop" r="textAreaRight" b="textAreaBottom"/>
            <a:pathLst>
              <a:path w="21600" h="62769">
                <a:moveTo>
                  <a:pt x="1637" y="0"/>
                </a:moveTo>
                <a:arcTo wR="1637" hR="1637" stAng="16200000" swAng="-5400000"/>
                <a:lnTo>
                  <a:pt x="0" y="61132"/>
                </a:lnTo>
                <a:arcTo wR="1637" hR="1637" stAng="10800000" swAng="-5400000"/>
                <a:lnTo>
                  <a:pt x="19963" y="62769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่งเสริม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นับสนุ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ละพัฒน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ุณ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ตามมาตรฐา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ด้านวิศวกรรม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แพทย์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ในสถา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บริกา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ุขภาพภาครัฐ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11480" y="5724360"/>
            <a:ext cx="595440" cy="1468440"/>
          </a:xfrm>
          <a:custGeom>
            <a:avLst/>
            <a:gdLst>
              <a:gd name="textAreaLeft" fmla="*/ 12960 w 595440"/>
              <a:gd name="textAreaRight" fmla="*/ 582480 w 595440"/>
              <a:gd name="textAreaTop" fmla="*/ 12960 h 1468440"/>
              <a:gd name="textAreaBottom" fmla="*/ 1455480 h 1468440"/>
            </a:gdLst>
            <a:ahLst/>
            <a:rect l="textAreaLeft" t="textAreaTop" r="textAreaRight" b="textAreaBottom"/>
            <a:pathLst>
              <a:path w="21600" h="53250">
                <a:moveTo>
                  <a:pt x="1637" y="0"/>
                </a:moveTo>
                <a:arcTo wR="1637" hR="1637" stAng="16200000" swAng="-5400000"/>
                <a:lnTo>
                  <a:pt x="0" y="51613"/>
                </a:lnTo>
                <a:arcTo wR="1637" hR="1637" stAng="10800000" swAng="-5400000"/>
                <a:lnTo>
                  <a:pt x="19963" y="53250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80808"/>
                </a:solidFill>
                <a:latin typeface="Angsana New"/>
                <a:cs typeface="Angsana New"/>
              </a:rPr>
              <a:t>ส่งเสริม พัฒนา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80808"/>
                </a:solidFill>
                <a:latin typeface="Angsana New"/>
                <a:cs typeface="Angsana New"/>
              </a:rPr>
              <a:t>ควบคุม กำกับ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80808"/>
                </a:solidFill>
                <a:latin typeface="Angsana New"/>
                <a:cs typeface="Angsana New"/>
              </a:rPr>
              <a:t>สถานบริกา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80808"/>
                </a:solidFill>
                <a:latin typeface="Angsana New"/>
                <a:cs typeface="Angsana New"/>
              </a:rPr>
              <a:t>สุข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80808"/>
                </a:solidFill>
                <a:latin typeface="Angsana New"/>
                <a:cs typeface="Angsana New"/>
              </a:rPr>
              <a:t>ภาคเอกชนให้มี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80808"/>
                </a:solidFill>
                <a:latin typeface="Angsana New"/>
                <a:cs typeface="Angsana New"/>
              </a:rPr>
              <a:t>คุณ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80808"/>
                </a:solidFill>
                <a:latin typeface="Angsana New"/>
                <a:cs typeface="Angsana New"/>
              </a:rPr>
              <a:t>มาตรฐานตามที่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80808"/>
                </a:solidFill>
                <a:latin typeface="Angsana New"/>
                <a:cs typeface="Angsana New"/>
              </a:rPr>
              <a:t>กฎหมาย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80808"/>
                </a:solidFill>
                <a:latin typeface="Angsana New"/>
                <a:cs typeface="Angsana New"/>
              </a:rPr>
              <a:t>กำหนด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54560" y="5724360"/>
            <a:ext cx="504720" cy="1468440"/>
          </a:xfrm>
          <a:custGeom>
            <a:avLst/>
            <a:gdLst>
              <a:gd name="textAreaLeft" fmla="*/ 11160 w 504720"/>
              <a:gd name="textAreaRight" fmla="*/ 493560 w 504720"/>
              <a:gd name="textAreaTop" fmla="*/ 11160 h 1468440"/>
              <a:gd name="textAreaBottom" fmla="*/ 1457280 h 1468440"/>
            </a:gdLst>
            <a:ahLst/>
            <a:rect l="textAreaLeft" t="textAreaTop" r="textAreaRight" b="textAreaBottom"/>
            <a:pathLst>
              <a:path w="21600" h="62814">
                <a:moveTo>
                  <a:pt x="1637" y="0"/>
                </a:moveTo>
                <a:arcTo wR="1637" hR="1637" stAng="16200000" swAng="-5400000"/>
                <a:lnTo>
                  <a:pt x="0" y="61177"/>
                </a:lnTo>
                <a:arcTo wR="1637" hR="1637" stAng="10800000" swAng="-5400000"/>
                <a:lnTo>
                  <a:pt x="19963" y="62814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่งเสริม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นับสนุ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พัฒนา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ละกำกับ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ธุรกิจบริกา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ุขภาพให้มี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ุณ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าตรฐา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45280" y="5722920"/>
            <a:ext cx="431640" cy="1541520"/>
          </a:xfrm>
          <a:custGeom>
            <a:avLst/>
            <a:gdLst>
              <a:gd name="textAreaLeft" fmla="*/ 9360 w 431640"/>
              <a:gd name="textAreaRight" fmla="*/ 422280 w 431640"/>
              <a:gd name="textAreaTop" fmla="*/ 9360 h 1541520"/>
              <a:gd name="textAreaBottom" fmla="*/ 1532160 h 1541520"/>
            </a:gdLst>
            <a:ahLst/>
            <a:rect l="textAreaLeft" t="textAreaTop" r="textAreaRight" b="textAreaBottom"/>
            <a:pathLst>
              <a:path w="21600" h="77094">
                <a:moveTo>
                  <a:pt x="1637" y="0"/>
                </a:moveTo>
                <a:arcTo wR="1637" hR="1637" stAng="16200000" swAng="-5400000"/>
                <a:lnTo>
                  <a:pt x="0" y="75457"/>
                </a:lnTo>
                <a:arcTo wR="1637" hR="1637" stAng="10800000" swAng="-5400000"/>
                <a:lnTo>
                  <a:pt x="19963" y="77094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80808"/>
                </a:solidFill>
                <a:latin typeface="Angsana New"/>
                <a:cs typeface="Angsana New"/>
              </a:rPr>
              <a:t>ส่งเสริม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80808"/>
                </a:solidFill>
                <a:latin typeface="Angsana New"/>
                <a:cs typeface="Angsana New"/>
              </a:rPr>
              <a:t>การ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80808"/>
                </a:solidFill>
                <a:latin typeface="Angsana New"/>
                <a:cs typeface="Angsana New"/>
              </a:rPr>
              <a:t>คุ้มครอง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80808"/>
                </a:solidFill>
                <a:latin typeface="Angsana New"/>
                <a:cs typeface="Angsana New"/>
              </a:rPr>
              <a:t>ด้าน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80808"/>
                </a:solidFill>
                <a:latin typeface="Angsana New"/>
                <a:cs typeface="Angsana New"/>
              </a:rPr>
              <a:t>บริการ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80808"/>
                </a:solidFill>
                <a:latin typeface="Angsana New"/>
                <a:cs typeface="Angsana New"/>
              </a:rPr>
              <a:t>สุขภาพ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51640" y="5722920"/>
            <a:ext cx="541080" cy="1541520"/>
          </a:xfrm>
          <a:custGeom>
            <a:avLst/>
            <a:gdLst>
              <a:gd name="textAreaLeft" fmla="*/ 11880 w 541080"/>
              <a:gd name="textAreaRight" fmla="*/ 529200 w 541080"/>
              <a:gd name="textAreaTop" fmla="*/ 11880 h 1541520"/>
              <a:gd name="textAreaBottom" fmla="*/ 1529640 h 1541520"/>
            </a:gdLst>
            <a:ahLst/>
            <a:rect l="textAreaLeft" t="textAreaTop" r="textAreaRight" b="textAreaBottom"/>
            <a:pathLst>
              <a:path w="21600" h="61511">
                <a:moveTo>
                  <a:pt x="1637" y="0"/>
                </a:moveTo>
                <a:arcTo wR="1637" hR="1637" stAng="16200000" swAng="-5400000"/>
                <a:lnTo>
                  <a:pt x="0" y="59874"/>
                </a:lnTo>
                <a:arcTo wR="1637" hR="1637" stAng="10800000" swAng="-5400000"/>
                <a:lnTo>
                  <a:pt x="19963" y="61511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ศึกษา วิเคราะห์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วิจัย พัฒน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ูปแบบ เพื่อพัฒน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องค์ความรู้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ละเทคโนโลยีด้า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ะบบบริกา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ุข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ุขศึกษา แล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ุขภาพภาค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ชาช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79400" y="5724360"/>
            <a:ext cx="550800" cy="1468440"/>
          </a:xfrm>
          <a:custGeom>
            <a:avLst/>
            <a:gdLst>
              <a:gd name="textAreaLeft" fmla="*/ 11880 w 550800"/>
              <a:gd name="textAreaRight" fmla="*/ 538920 w 550800"/>
              <a:gd name="textAreaTop" fmla="*/ 11880 h 1468440"/>
              <a:gd name="textAreaBottom" fmla="*/ 1456560 h 1468440"/>
            </a:gdLst>
            <a:ahLst/>
            <a:rect l="textAreaLeft" t="textAreaTop" r="textAreaRight" b="textAreaBottom"/>
            <a:pathLst>
              <a:path w="21600" h="57562">
                <a:moveTo>
                  <a:pt x="1637" y="0"/>
                </a:moveTo>
                <a:arcTo wR="1637" hR="1637" stAng="16200000" swAng="-5400000"/>
                <a:lnTo>
                  <a:pt x="0" y="55925"/>
                </a:lnTo>
                <a:arcTo wR="1637" hR="1637" stAng="10800000" swAng="-5400000"/>
                <a:lnTo>
                  <a:pt x="19963" y="57562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่งเสริม พัฒนา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วบคุมกำกับ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ุณภาพมาตร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Angsana New"/>
              </a:rPr>
              <a:t>-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ฐานบริกา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ุขภาพใ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ถา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บริกา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ุข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ภาครัฐ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01840" y="5724360"/>
            <a:ext cx="504720" cy="1468440"/>
          </a:xfrm>
          <a:custGeom>
            <a:avLst/>
            <a:gdLst>
              <a:gd name="textAreaLeft" fmla="*/ 11160 w 504720"/>
              <a:gd name="textAreaRight" fmla="*/ 493560 w 504720"/>
              <a:gd name="textAreaTop" fmla="*/ 11160 h 1468440"/>
              <a:gd name="textAreaBottom" fmla="*/ 1457280 h 1468440"/>
            </a:gdLst>
            <a:ahLst/>
            <a:rect l="textAreaLeft" t="textAreaTop" r="textAreaRight" b="textAreaBottom"/>
            <a:pathLst>
              <a:path w="21600" h="62814">
                <a:moveTo>
                  <a:pt x="1637" y="0"/>
                </a:moveTo>
                <a:arcTo wR="1637" hR="1637" stAng="16200000" swAng="-5400000"/>
                <a:lnTo>
                  <a:pt x="0" y="61177"/>
                </a:lnTo>
                <a:arcTo wR="1637" hR="1637" stAng="10800000" swAng="-5400000"/>
                <a:lnTo>
                  <a:pt x="19963" y="62814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่งเสริม พัฒนา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วบคุมกำกับ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ถานบริกา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ุข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ภาครัฐให้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ได้คุณ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ตามมาตรฐา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งานสุขศึกษ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78200" y="5724360"/>
            <a:ext cx="504720" cy="1468440"/>
          </a:xfrm>
          <a:custGeom>
            <a:avLst/>
            <a:gdLst>
              <a:gd name="textAreaLeft" fmla="*/ 11160 w 504720"/>
              <a:gd name="textAreaRight" fmla="*/ 493560 w 504720"/>
              <a:gd name="textAreaTop" fmla="*/ 11160 h 1468440"/>
              <a:gd name="textAreaBottom" fmla="*/ 1457280 h 1468440"/>
            </a:gdLst>
            <a:ahLst/>
            <a:rect l="textAreaLeft" t="textAreaTop" r="textAreaRight" b="textAreaBottom"/>
            <a:pathLst>
              <a:path w="21600" h="62814">
                <a:moveTo>
                  <a:pt x="1637" y="0"/>
                </a:moveTo>
                <a:arcTo wR="1637" hR="1637" stAng="16200000" swAng="-5400000"/>
                <a:lnTo>
                  <a:pt x="0" y="61177"/>
                </a:lnTo>
                <a:arcTo wR="1637" hR="1637" stAng="10800000" swAng="-5400000"/>
                <a:lnTo>
                  <a:pt x="19963" y="62814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่งเสริมสนับสนุ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พัฒนา แล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วบคุมกำกับ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ุณ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าตรฐา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ด้านอาคา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ถานที่ใ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ถานบริกา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ุขภาพภาครัฐ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ทุกระดับ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945640" y="6256440"/>
            <a:ext cx="969840" cy="855720"/>
          </a:xfrm>
          <a:prstGeom prst="rect">
            <a:avLst/>
          </a:prstGeom>
          <a:solidFill>
            <a:srgbClr val="3399ff"/>
          </a:solidFill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ffffff"/>
                </a:solidFill>
                <a:latin typeface="Angsana New"/>
                <a:cs typeface="Angsana New"/>
              </a:rPr>
              <a:t>จัดทำโดย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ffffff"/>
                </a:solidFill>
                <a:latin typeface="Angsana New"/>
                <a:cs typeface="Angsana New"/>
              </a:rPr>
              <a:t>กลุ่มนโยบายและแผน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ffffff"/>
                </a:solidFill>
                <a:latin typeface="Angsana New"/>
                <a:cs typeface="Angsana New"/>
              </a:rPr>
              <a:t>สำนักบริหาร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ffffff"/>
                </a:solidFill>
                <a:latin typeface="Angsana New"/>
                <a:cs typeface="Angsana New"/>
              </a:rPr>
              <a:t>ปรับปรุง </a:t>
            </a:r>
            <a:r>
              <a:rPr b="1" lang="th-TH" sz="900" spc="-1" strike="noStrike">
                <a:solidFill>
                  <a:srgbClr val="ffffff"/>
                </a:solidFill>
                <a:latin typeface="Angsana New"/>
                <a:ea typeface="Angsana New"/>
              </a:rPr>
              <a:t>10 </a:t>
            </a:r>
            <a:r>
              <a:rPr b="1" lang="th-TH" sz="900" spc="-1" strike="noStrike">
                <a:solidFill>
                  <a:srgbClr val="ffffff"/>
                </a:solidFill>
                <a:latin typeface="Angsana New"/>
                <a:cs typeface="Angsana New"/>
              </a:rPr>
              <a:t>ส</a:t>
            </a:r>
            <a:r>
              <a:rPr b="1" lang="th-TH" sz="900" spc="-1" strike="noStrike">
                <a:solidFill>
                  <a:srgbClr val="ffffff"/>
                </a:solidFill>
                <a:latin typeface="Angsana New"/>
                <a:ea typeface="Angsana New"/>
              </a:rPr>
              <a:t>.</a:t>
            </a:r>
            <a:r>
              <a:rPr b="1" lang="th-TH" sz="900" spc="-1" strike="noStrike">
                <a:solidFill>
                  <a:srgbClr val="ffffff"/>
                </a:solidFill>
                <a:latin typeface="Angsana New"/>
                <a:cs typeface="Angsana New"/>
              </a:rPr>
              <a:t>ค</a:t>
            </a:r>
            <a:r>
              <a:rPr b="1" lang="th-TH" sz="900" spc="-1" strike="noStrike">
                <a:solidFill>
                  <a:srgbClr val="ffffff"/>
                </a:solidFill>
                <a:latin typeface="Angsana New"/>
                <a:ea typeface="Angsana New"/>
              </a:rPr>
              <a:t>.255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626760" y="3913200"/>
            <a:ext cx="107640" cy="150840"/>
          </a:xfrm>
          <a:prstGeom prst="downArrow">
            <a:avLst>
              <a:gd name="adj1" fmla="val 50000"/>
              <a:gd name="adj2" fmla="val 3503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713880" y="3378240"/>
            <a:ext cx="106560" cy="152280"/>
          </a:xfrm>
          <a:prstGeom prst="downArrow">
            <a:avLst>
              <a:gd name="adj1" fmla="val 50000"/>
              <a:gd name="adj2" fmla="val 3572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371160" y="1701720"/>
            <a:ext cx="107640" cy="152640"/>
          </a:xfrm>
          <a:prstGeom prst="downArrow">
            <a:avLst>
              <a:gd name="adj1" fmla="val 50000"/>
              <a:gd name="adj2" fmla="val 3545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3880" y="2387520"/>
            <a:ext cx="106560" cy="152640"/>
          </a:xfrm>
          <a:prstGeom prst="downArrow">
            <a:avLst>
              <a:gd name="adj1" fmla="val 50000"/>
              <a:gd name="adj2" fmla="val 3581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88360" y="1244520"/>
            <a:ext cx="108000" cy="152640"/>
          </a:xfrm>
          <a:prstGeom prst="downArrow">
            <a:avLst>
              <a:gd name="adj1" fmla="val 50000"/>
              <a:gd name="adj2" fmla="val 3533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24360" y="1244520"/>
            <a:ext cx="108000" cy="152640"/>
          </a:xfrm>
          <a:prstGeom prst="downArrow">
            <a:avLst>
              <a:gd name="adj1" fmla="val 50000"/>
              <a:gd name="adj2" fmla="val 3533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97400" y="1701720"/>
            <a:ext cx="107640" cy="152640"/>
          </a:xfrm>
          <a:prstGeom prst="downArrow">
            <a:avLst>
              <a:gd name="adj1" fmla="val 50000"/>
              <a:gd name="adj2" fmla="val 3545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41840" y="1701720"/>
            <a:ext cx="108000" cy="152640"/>
          </a:xfrm>
          <a:prstGeom prst="downArrow">
            <a:avLst>
              <a:gd name="adj1" fmla="val 50000"/>
              <a:gd name="adj2" fmla="val 3533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2432160"/>
            <a:ext cx="142920" cy="223560"/>
          </a:xfrm>
          <a:prstGeom prst="downArrow">
            <a:avLst>
              <a:gd name="adj1" fmla="val 50000"/>
              <a:gd name="adj2" fmla="val 3910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30920" y="2368440"/>
            <a:ext cx="122040" cy="216000"/>
          </a:xfrm>
          <a:prstGeom prst="downArrow">
            <a:avLst>
              <a:gd name="adj1" fmla="val 50000"/>
              <a:gd name="adj2" fmla="val 4424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rot="19047000">
            <a:off x="6803280" y="2368080"/>
            <a:ext cx="106560" cy="225360"/>
          </a:xfrm>
          <a:prstGeom prst="downArrow">
            <a:avLst>
              <a:gd name="adj1" fmla="val 50000"/>
              <a:gd name="adj2" fmla="val 5287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98560" y="3987720"/>
            <a:ext cx="106560" cy="152640"/>
          </a:xfrm>
          <a:prstGeom prst="downArrow">
            <a:avLst>
              <a:gd name="adj1" fmla="val 50000"/>
              <a:gd name="adj2" fmla="val 3581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rot="19047000">
            <a:off x="2983680" y="3913200"/>
            <a:ext cx="111240" cy="223920"/>
          </a:xfrm>
          <a:prstGeom prst="downArrow">
            <a:avLst>
              <a:gd name="adj1" fmla="val 50000"/>
              <a:gd name="adj2" fmla="val 50324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rot="19047000">
            <a:off x="4435560" y="3912840"/>
            <a:ext cx="108000" cy="223920"/>
          </a:xfrm>
          <a:prstGeom prst="downArrow">
            <a:avLst>
              <a:gd name="adj1" fmla="val 50000"/>
              <a:gd name="adj2" fmla="val 5183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62560" y="3376440"/>
            <a:ext cx="108000" cy="21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rot="19047000">
            <a:off x="6137640" y="3913200"/>
            <a:ext cx="106560" cy="223920"/>
          </a:xfrm>
          <a:prstGeom prst="downArrow">
            <a:avLst>
              <a:gd name="adj1" fmla="val 50000"/>
              <a:gd name="adj2" fmla="val 52534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38920" y="3952800"/>
            <a:ext cx="86040" cy="150840"/>
          </a:xfrm>
          <a:prstGeom prst="downArrow">
            <a:avLst>
              <a:gd name="adj1" fmla="val 50000"/>
              <a:gd name="adj2" fmla="val 4382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74920" y="4592520"/>
            <a:ext cx="109440" cy="152640"/>
          </a:xfrm>
          <a:prstGeom prst="downArrow">
            <a:avLst>
              <a:gd name="adj1" fmla="val 50000"/>
              <a:gd name="adj2" fmla="val 3486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 rot="19047000">
            <a:off x="3752280" y="4521240"/>
            <a:ext cx="109440" cy="225360"/>
          </a:xfrm>
          <a:prstGeom prst="downArrow">
            <a:avLst>
              <a:gd name="adj1" fmla="val 50000"/>
              <a:gd name="adj2" fmla="val 5148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83280" y="4529160"/>
            <a:ext cx="108000" cy="21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19640" y="928800"/>
            <a:ext cx="4608360" cy="380880"/>
          </a:xfrm>
          <a:prstGeom prst="roundRect">
            <a:avLst>
              <a:gd name="adj" fmla="val 107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533520" indent="-53352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Angsana New"/>
                <a:ea typeface="Angsana New"/>
              </a:rPr>
              <a:t>3. </a:t>
            </a:r>
            <a:r>
              <a:rPr b="1" lang="th-TH" sz="1600" spc="-1" strike="noStrike">
                <a:solidFill>
                  <a:srgbClr val="ffffff"/>
                </a:solidFill>
                <a:latin typeface="Angsana New"/>
                <a:cs typeface="Angsana New"/>
              </a:rPr>
              <a:t>ยุทธศาสตร์การพัฒนาสังคมและคุณภาพชีวิต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78200" y="5724360"/>
            <a:ext cx="504720" cy="1468440"/>
          </a:xfrm>
          <a:custGeom>
            <a:avLst/>
            <a:gdLst>
              <a:gd name="textAreaLeft" fmla="*/ 11160 w 504720"/>
              <a:gd name="textAreaRight" fmla="*/ 493560 w 504720"/>
              <a:gd name="textAreaTop" fmla="*/ 11160 h 1468440"/>
              <a:gd name="textAreaBottom" fmla="*/ 1457280 h 1468440"/>
            </a:gdLst>
            <a:ahLst/>
            <a:rect l="textAreaLeft" t="textAreaTop" r="textAreaRight" b="textAreaBottom"/>
            <a:pathLst>
              <a:path w="21600" h="62814">
                <a:moveTo>
                  <a:pt x="1637" y="0"/>
                </a:moveTo>
                <a:arcTo wR="1637" hR="1637" stAng="16200000" swAng="-5400000"/>
                <a:lnTo>
                  <a:pt x="0" y="61177"/>
                </a:lnTo>
                <a:arcTo wR="1637" hR="1637" stAng="10800000" swAng="-5400000"/>
                <a:lnTo>
                  <a:pt x="19963" y="62814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80808"/>
                </a:solidFill>
                <a:latin typeface="Angsana New"/>
                <a:cs typeface="Angsana New"/>
              </a:rPr>
              <a:t>ส่งเสริม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80808"/>
                </a:solidFill>
                <a:latin typeface="Angsana New"/>
                <a:cs typeface="Angsana New"/>
              </a:rPr>
              <a:t>พัฒนา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80808"/>
                </a:solidFill>
                <a:latin typeface="Angsana New"/>
                <a:cs typeface="Angsana New"/>
              </a:rPr>
              <a:t>ควบคุม กำกับ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80808"/>
                </a:solidFill>
                <a:latin typeface="Angsana New"/>
                <a:cs typeface="Angsana New"/>
              </a:rPr>
              <a:t>การประกอบ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80808"/>
                </a:solidFill>
                <a:latin typeface="Angsana New"/>
                <a:cs typeface="Angsana New"/>
              </a:rPr>
              <a:t>โรคศิลปะให้มี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80808"/>
                </a:solidFill>
                <a:latin typeface="Angsana New"/>
                <a:cs typeface="Angsana New"/>
              </a:rPr>
              <a:t>คุณ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80808"/>
                </a:solidFill>
                <a:latin typeface="Angsana New"/>
                <a:cs typeface="Angsana New"/>
              </a:rPr>
              <a:t>มาตรฐา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80808"/>
                </a:solidFill>
                <a:latin typeface="Angsana New"/>
                <a:cs typeface="Angsana New"/>
              </a:rPr>
              <a:t>ตามที่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80808"/>
                </a:solidFill>
                <a:latin typeface="Angsana New"/>
                <a:cs typeface="Angsana New"/>
              </a:rPr>
              <a:t>กฎหมาย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80808"/>
                </a:solidFill>
                <a:latin typeface="Angsana New"/>
                <a:cs typeface="Angsana New"/>
              </a:rPr>
              <a:t>กำหนด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49" idx="2"/>
            <a:endCxn id="166" idx="0"/>
          </p:cNvCxnSpPr>
          <p:nvPr/>
        </p:nvCxnSpPr>
        <p:spPr>
          <a:xfrm flipH="1" rot="16200000">
            <a:off x="1452600" y="5522400"/>
            <a:ext cx="260640" cy="143280"/>
          </a:xfrm>
          <a:prstGeom prst="bentConnector5">
            <a:avLst>
              <a:gd name="adj1" fmla="val 753112"/>
              <a:gd name="adj2" fmla="val 641057"/>
              <a:gd name="adj3" fmla="val 10926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49" idx="2"/>
            <a:endCxn id="165" idx="0"/>
          </p:cNvCxnSpPr>
          <p:nvPr/>
        </p:nvCxnSpPr>
        <p:spPr>
          <a:xfrm rot="5400000">
            <a:off x="1152720" y="5365800"/>
            <a:ext cx="260640" cy="456840"/>
          </a:xfrm>
          <a:prstGeom prst="bentConnector5">
            <a:avLst>
              <a:gd name="adj1" fmla="val 753112"/>
              <a:gd name="adj2" fmla="val 221845"/>
              <a:gd name="adj3" fmla="val 10926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49" idx="2"/>
            <a:endCxn id="167" idx="0"/>
          </p:cNvCxnSpPr>
          <p:nvPr/>
        </p:nvCxnSpPr>
        <p:spPr>
          <a:xfrm flipH="1" rot="16200000">
            <a:off x="1740960" y="5234400"/>
            <a:ext cx="260640" cy="719640"/>
          </a:xfrm>
          <a:prstGeom prst="bentConnector5">
            <a:avLst>
              <a:gd name="adj1" fmla="val 753112"/>
              <a:gd name="adj2" fmla="val 180180"/>
              <a:gd name="adj3" fmla="val 10926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49" idx="2"/>
            <a:endCxn id="160" idx="0"/>
          </p:cNvCxnSpPr>
          <p:nvPr/>
        </p:nvCxnSpPr>
        <p:spPr>
          <a:xfrm flipH="1" rot="16200000">
            <a:off x="2028960" y="4946400"/>
            <a:ext cx="260640" cy="1295640"/>
          </a:xfrm>
          <a:prstGeom prst="bentConnector5">
            <a:avLst>
              <a:gd name="adj1" fmla="val 753112"/>
              <a:gd name="adj2" fmla="val 139938"/>
              <a:gd name="adj3" fmla="val 10926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49" idx="2"/>
            <a:endCxn id="161" idx="0"/>
          </p:cNvCxnSpPr>
          <p:nvPr/>
        </p:nvCxnSpPr>
        <p:spPr>
          <a:xfrm flipH="1" rot="16200000">
            <a:off x="2330280" y="4645080"/>
            <a:ext cx="260640" cy="1898280"/>
          </a:xfrm>
          <a:prstGeom prst="bentConnector5">
            <a:avLst>
              <a:gd name="adj1" fmla="val 225587"/>
              <a:gd name="adj2" fmla="val 60204"/>
              <a:gd name="adj3" fmla="val 10926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49" idx="2"/>
            <a:endCxn id="190" idx="0"/>
          </p:cNvCxnSpPr>
          <p:nvPr/>
        </p:nvCxnSpPr>
        <p:spPr>
          <a:xfrm flipH="1" rot="16200000">
            <a:off x="2640960" y="4334400"/>
            <a:ext cx="260640" cy="2519640"/>
          </a:xfrm>
          <a:prstGeom prst="bentConnector5">
            <a:avLst>
              <a:gd name="adj1" fmla="val 225587"/>
              <a:gd name="adj2" fmla="val 58588"/>
              <a:gd name="adj3" fmla="val 10926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49" idx="2"/>
            <a:endCxn id="162" idx="0"/>
          </p:cNvCxnSpPr>
          <p:nvPr/>
        </p:nvCxnSpPr>
        <p:spPr>
          <a:xfrm flipH="1" rot="16200000">
            <a:off x="2928960" y="4046040"/>
            <a:ext cx="260640" cy="3096000"/>
          </a:xfrm>
          <a:prstGeom prst="bentConnector5">
            <a:avLst>
              <a:gd name="adj1" fmla="val 225587"/>
              <a:gd name="adj2" fmla="val 56983"/>
              <a:gd name="adj3" fmla="val 10926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50" idx="2"/>
            <a:endCxn id="164" idx="0"/>
          </p:cNvCxnSpPr>
          <p:nvPr/>
        </p:nvCxnSpPr>
        <p:spPr>
          <a:xfrm flipH="1" rot="16200000">
            <a:off x="4829400" y="4630320"/>
            <a:ext cx="402120" cy="1783800"/>
          </a:xfrm>
          <a:prstGeom prst="bentConnector5">
            <a:avLst>
              <a:gd name="adj1" fmla="val 161379"/>
              <a:gd name="adj2" fmla="val 55308"/>
              <a:gd name="adj3" fmla="val 42383"/>
            </a:avLst>
          </a:prstGeom>
          <a:ln w="12600">
            <a:solidFill>
              <a:srgbClr val="ff505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54" idx="2"/>
            <a:endCxn id="163" idx="0"/>
          </p:cNvCxnSpPr>
          <p:nvPr/>
        </p:nvCxnSpPr>
        <p:spPr>
          <a:xfrm flipH="1" rot="16200000">
            <a:off x="5567400" y="4829040"/>
            <a:ext cx="617760" cy="1170360"/>
          </a:xfrm>
          <a:prstGeom prst="bentConnector5">
            <a:avLst>
              <a:gd name="adj1" fmla="val 417551"/>
              <a:gd name="adj2" fmla="val 138276"/>
              <a:gd name="adj3" fmla="val 62507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52" idx="2"/>
            <a:endCxn id="157" idx="0"/>
          </p:cNvCxnSpPr>
          <p:nvPr/>
        </p:nvCxnSpPr>
        <p:spPr>
          <a:xfrm flipH="1" rot="16200000">
            <a:off x="6500160" y="5248800"/>
            <a:ext cx="546480" cy="402120"/>
          </a:xfrm>
          <a:prstGeom prst="bentConnector3">
            <a:avLst>
              <a:gd name="adj1" fmla="val 90573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55" idx="2"/>
            <a:endCxn id="156" idx="0"/>
          </p:cNvCxnSpPr>
          <p:nvPr/>
        </p:nvCxnSpPr>
        <p:spPr>
          <a:xfrm rot="5400000">
            <a:off x="7596360" y="5440320"/>
            <a:ext cx="260640" cy="307800"/>
          </a:xfrm>
          <a:prstGeom prst="bentConnector5">
            <a:avLst>
              <a:gd name="adj1" fmla="val 1361964"/>
              <a:gd name="adj2" fmla="val 268032"/>
              <a:gd name="adj3" fmla="val 10926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6515280" y="4529160"/>
            <a:ext cx="107640" cy="216000"/>
          </a:xfrm>
          <a:prstGeom prst="downArrow">
            <a:avLst>
              <a:gd name="adj1" fmla="val 50000"/>
              <a:gd name="adj2" fmla="val 501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280360" y="4529160"/>
            <a:ext cx="108000" cy="21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539280" y="4529160"/>
            <a:ext cx="108000" cy="21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 rot="19047000">
            <a:off x="3319920" y="3301560"/>
            <a:ext cx="123840" cy="293400"/>
          </a:xfrm>
          <a:prstGeom prst="downArrow">
            <a:avLst>
              <a:gd name="adj1" fmla="val 50000"/>
              <a:gd name="adj2" fmla="val 5923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87640" y="3303720"/>
            <a:ext cx="108000" cy="225360"/>
          </a:xfrm>
          <a:prstGeom prst="downArrow">
            <a:avLst>
              <a:gd name="adj1" fmla="val 50000"/>
              <a:gd name="adj2" fmla="val 521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43640" y="3376440"/>
            <a:ext cx="108000" cy="21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891560" y="5724360"/>
            <a:ext cx="511200" cy="1684440"/>
          </a:xfrm>
          <a:custGeom>
            <a:avLst/>
            <a:gdLst>
              <a:gd name="textAreaLeft" fmla="*/ 11160 w 511200"/>
              <a:gd name="textAreaRight" fmla="*/ 500040 w 511200"/>
              <a:gd name="textAreaTop" fmla="*/ 11160 h 1684440"/>
              <a:gd name="textAreaBottom" fmla="*/ 1673280 h 1684440"/>
            </a:gdLst>
            <a:ahLst/>
            <a:rect l="textAreaLeft" t="textAreaTop" r="textAreaRight" b="textAreaBottom"/>
            <a:pathLst>
              <a:path w="21600" h="71139">
                <a:moveTo>
                  <a:pt x="1637" y="0"/>
                </a:moveTo>
                <a:arcTo wR="1637" hR="1637" stAng="16200000" swAng="-5400000"/>
                <a:lnTo>
                  <a:pt x="0" y="69502"/>
                </a:lnTo>
                <a:arcTo wR="1637" hR="1637" stAng="10800000" swAng="-5400000"/>
                <a:lnTo>
                  <a:pt x="19963" y="71139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พัฒน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ศักย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อาสาสมัค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าธารณสุ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จ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มู่บ้า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อสม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Angsana New"/>
              </a:rPr>
              <a:t>.)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ใ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เฝ้าร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วังโรคแล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ดูแลผู้ป่วย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ในชุมช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381880" y="5724360"/>
            <a:ext cx="509760" cy="1684440"/>
          </a:xfrm>
          <a:custGeom>
            <a:avLst/>
            <a:gdLst>
              <a:gd name="textAreaLeft" fmla="*/ 11160 w 509760"/>
              <a:gd name="textAreaRight" fmla="*/ 498600 w 509760"/>
              <a:gd name="textAreaTop" fmla="*/ 11160 h 1684440"/>
              <a:gd name="textAreaBottom" fmla="*/ 1673280 h 1684440"/>
            </a:gdLst>
            <a:ahLst/>
            <a:rect l="textAreaLeft" t="textAreaTop" r="textAreaRight" b="textAreaBottom"/>
            <a:pathLst>
              <a:path w="21600" h="71339">
                <a:moveTo>
                  <a:pt x="1637" y="0"/>
                </a:moveTo>
                <a:arcTo wR="1637" hR="1637" stAng="16200000" swAng="-5400000"/>
                <a:lnTo>
                  <a:pt x="0" y="69702"/>
                </a:lnTo>
                <a:arcTo wR="1637" hR="1637" stAng="10800000" swAng="-5400000"/>
                <a:lnTo>
                  <a:pt x="19963" y="71339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t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พัฒน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ศักย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อาสาสมัค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าธารณสุ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จำหมู่บ้าน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อสม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Angsana New"/>
              </a:rPr>
              <a:t>.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ในกา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้องกั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โรคที่เป็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ภัยคุกคาม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ไข้หวัด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นก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Angsana New"/>
              </a:rPr>
              <a:t>/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ไข้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วัดใหญ่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0" name=""/>
          <p:cNvCxnSpPr>
            <a:stCxn id="155" idx="2"/>
            <a:endCxn id="208" idx="0"/>
          </p:cNvCxnSpPr>
          <p:nvPr/>
        </p:nvCxnSpPr>
        <p:spPr>
          <a:xfrm flipH="1" rot="16200000">
            <a:off x="7883640" y="5460480"/>
            <a:ext cx="260640" cy="267120"/>
          </a:xfrm>
          <a:prstGeom prst="bentConnector5">
            <a:avLst>
              <a:gd name="adj1" fmla="val 839834"/>
              <a:gd name="adj2" fmla="val 294601"/>
              <a:gd name="adj3" fmla="val 7192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155" idx="2"/>
            <a:endCxn id="209" idx="0"/>
          </p:cNvCxnSpPr>
          <p:nvPr/>
        </p:nvCxnSpPr>
        <p:spPr>
          <a:xfrm flipH="1" rot="16200000">
            <a:off x="8128440" y="5215680"/>
            <a:ext cx="260640" cy="756720"/>
          </a:xfrm>
          <a:prstGeom prst="bentConnector5">
            <a:avLst>
              <a:gd name="adj1" fmla="val 839834"/>
              <a:gd name="adj2" fmla="val 165635"/>
              <a:gd name="adj3" fmla="val 7192"/>
            </a:avLst>
          </a:prstGeom>
          <a:ln w="1260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212" name=""/>
          <p:cNvSpPr/>
          <p:nvPr/>
        </p:nvSpPr>
        <p:spPr>
          <a:xfrm>
            <a:off x="4930920" y="5824440"/>
            <a:ext cx="649080" cy="1368360"/>
          </a:xfrm>
          <a:custGeom>
            <a:avLst/>
            <a:gdLst>
              <a:gd name="textAreaLeft" fmla="*/ 14400 w 649080"/>
              <a:gd name="textAreaRight" fmla="*/ 634680 w 649080"/>
              <a:gd name="textAreaTop" fmla="*/ 14400 h 1368360"/>
              <a:gd name="textAreaBottom" fmla="*/ 1353960 h 1368360"/>
            </a:gdLst>
            <a:ahLst/>
            <a:rect l="textAreaLeft" t="textAreaTop" r="textAreaRight" b="textAreaBottom"/>
            <a:pathLst>
              <a:path w="21600" h="45523">
                <a:moveTo>
                  <a:pt x="1637" y="0"/>
                </a:moveTo>
                <a:arcTo wR="1637" hR="1637" stAng="16200000" swAng="-5400000"/>
                <a:lnTo>
                  <a:pt x="0" y="43886"/>
                </a:lnTo>
                <a:arcTo wR="1637" hR="1637" stAng="10800000" swAng="-5400000"/>
                <a:lnTo>
                  <a:pt x="19963" y="45523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28440">
            <a:solidFill>
              <a:srgbClr val="ff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Angsana New"/>
              </a:rPr>
              <a:t>พัฒนาศักยภาพ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น่วยบริการ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Angsana New"/>
              </a:rPr>
              <a:t>ตติยภูมิเฉพาะทาง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Angsana New"/>
              </a:rPr>
              <a:t>โรคหัวใจและ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ลอดเลือด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ะเร็งและเครือ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Angsana New"/>
              </a:rPr>
              <a:t>ข่ายควบคุมการ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Angsana New"/>
              </a:rPr>
              <a:t>บาดเจ็บ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ี 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  <a:ea typeface="Angsana New"/>
              </a:rPr>
              <a:t>2553-2555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68360" y="4745160"/>
            <a:ext cx="1222560" cy="71892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28440">
            <a:solidFill>
              <a:srgbClr val="ff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Angsana New"/>
              </a:rPr>
              <a:t>โครงการผลิตและพัฒนาศักยภาพแพทย์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ละบุคลากรสาธารณสุข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Angsana New"/>
              </a:rPr>
              <a:t>ภายใต้แผนปฏิบัติการไทยเข้มแข็ง 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  <a:ea typeface="Angsana New"/>
              </a:rPr>
              <a:t>2555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ผนฟื้นฟูเศรษฐกิจระยะที่ 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  <a:ea typeface="Angsana New"/>
              </a:rPr>
              <a:t>2 </a:t>
            </a:r>
            <a:r>
              <a:rPr b="1" lang="en-US" sz="900" spc="-1" strike="noStrike">
                <a:solidFill>
                  <a:srgbClr val="000000"/>
                </a:solidFill>
                <a:latin typeface="Angsana New"/>
                <a:ea typeface="Angsana New"/>
              </a:rPr>
              <a:t>: SP2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4" name=""/>
          <p:cNvCxnSpPr>
            <a:stCxn id="213" idx="2"/>
            <a:endCxn id="212" idx="0"/>
          </p:cNvCxnSpPr>
          <p:nvPr/>
        </p:nvCxnSpPr>
        <p:spPr>
          <a:xfrm flipH="1" rot="16200000">
            <a:off x="3887280" y="4456080"/>
            <a:ext cx="360720" cy="2376000"/>
          </a:xfrm>
          <a:prstGeom prst="curvedConnector3">
            <a:avLst>
              <a:gd name="adj1" fmla="val 24975"/>
            </a:avLst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 flipH="1" rot="19047000">
            <a:off x="2337840" y="4521240"/>
            <a:ext cx="110880" cy="223920"/>
          </a:xfrm>
          <a:prstGeom prst="downArrow">
            <a:avLst>
              <a:gd name="adj1" fmla="val 50000"/>
              <a:gd name="adj2" fmla="val 5048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30920" y="7264440"/>
            <a:ext cx="8650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760" rIns="32760" tIns="6480" bIns="6480" anchor="t">
            <a:spAutoFit/>
          </a:bodyPr>
          <a:p>
            <a:pPr marL="325440" indent="-325440" algn="ctr">
              <a:lnSpc>
                <a:spcPct val="104000"/>
              </a:lnSpc>
              <a:spcBef>
                <a:spcPts val="938"/>
              </a:spcBef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th-TH" sz="1500" spc="-1" strike="noStrike">
                <a:solidFill>
                  <a:srgbClr val="080808"/>
                </a:solidFill>
                <a:latin typeface="Browallia New"/>
                <a:ea typeface="Browallia New"/>
              </a:rPr>
              <a:t>- 131 -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5T17:41:46Z</dcterms:created>
  <dc:creator>BKK</dc:creator>
  <dc:description/>
  <dc:language>en-US</dc:language>
  <cp:lastModifiedBy>Microsoft</cp:lastModifiedBy>
  <dcterms:modified xsi:type="dcterms:W3CDTF">2009-11-13T02:48:01Z</dcterms:modified>
  <cp:revision>805</cp:revision>
  <dc:subject/>
  <dc:title>Slide 1</dc:title>
</cp:coreProperties>
</file>