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2063" cy="7616825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C90-B044-4244-87A1-30070F83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3464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3160"/>
            <a:ext cx="913464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49D-34B4-4D16-B921-FD093925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A83-F102-4998-BF83-05283B35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768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768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316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40316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403160"/>
            <a:ext cx="294120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747-529E-4174-B938-C9EEB8A5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7680"/>
            <a:ext cx="91346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79C-333C-4C59-BACF-10305B7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3464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72C-C63B-4EE4-9B76-3BF3C786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118-EB76-45FA-ACA3-B6927D1A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93B-F179-4469-99B9-D62AB29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E35-13E9-47CE-9912-660E9F0C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044-85A6-4C7B-A305-1E9E683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40316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472-9BCD-4B95-990F-98109353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7680"/>
            <a:ext cx="445752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3160"/>
            <a:ext cx="9134640" cy="239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AE7-4218-4199-877C-8D6D958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34640" cy="50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7624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84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84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8456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6935400"/>
            <a:ext cx="2368440" cy="528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35400"/>
            <a:ext cx="3213360" cy="528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35400"/>
            <a:ext cx="2368800" cy="528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5C90734-08F9-4FE6-9397-D2C0F55DF6B7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520" y="906480"/>
            <a:ext cx="991548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ภูมิแสดงความเชื่อมโยงยุทธศาสตร์การจัดสรรงบประมาณ แผนงาน เป้าหมายการให้บริการกระทรวง เป้าหมายการให้บริการหน่วยงาน ผลผลิต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ครงการ และงบประมา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2200" y="1654200"/>
            <a:ext cx="15051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ุทธศาสตร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ัดสรร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2200" y="22748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ง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2040" y="2260440"/>
            <a:ext cx="4559400" cy="381240"/>
          </a:xfrm>
          <a:prstGeom prst="roundRect">
            <a:avLst>
              <a:gd name="adj" fmla="val 10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3.3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งานพัฒนาด้านสาธารณสุ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2260440"/>
            <a:ext cx="3021120" cy="381240"/>
          </a:xfrm>
          <a:prstGeom prst="roundRect">
            <a:avLst>
              <a:gd name="adj" fmla="val 10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 New"/>
              </a:rPr>
              <a:t>3.10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้องกันปัญหายาเสพติ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2851200"/>
            <a:ext cx="90648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้าหมายการให้บริการกระทรว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410080"/>
            <a:ext cx="1727280" cy="1731960"/>
          </a:xfrm>
          <a:custGeom>
            <a:avLst/>
            <a:gdLst>
              <a:gd name="textAreaLeft" fmla="*/ 38160 w 1727280"/>
              <a:gd name="textAreaRight" fmla="*/ 1689120 w 1727280"/>
              <a:gd name="textAreaTop" fmla="*/ 38160 h 1731960"/>
              <a:gd name="textAreaBottom" fmla="*/ 1693800 h 1731960"/>
            </a:gdLst>
            <a:ahLst/>
            <a:rect l="textAreaLeft" t="textAreaTop" r="textAreaRight" b="textAreaBottom"/>
            <a:pathLst>
              <a:path w="21600" h="21659">
                <a:moveTo>
                  <a:pt x="1637" y="0"/>
                </a:moveTo>
                <a:arcTo wR="1637" hR="1637" stAng="16200000" swAng="-5400000"/>
                <a:lnTo>
                  <a:pt x="0" y="20022"/>
                </a:lnTo>
                <a:arcTo wR="1637" hR="1637" stAng="10800000" swAng="-5400000"/>
                <a:lnTo>
                  <a:pt x="19963" y="2165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สุขภาพภาครัฐ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อกชน และสถานประกอบ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ิจบริการสุขภาพได้รับ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พัฒนา  สนับสนุ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สาน ควบคุม กำก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มาตรฐา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366.6044 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720" y="5415120"/>
            <a:ext cx="1366920" cy="1439640"/>
          </a:xfrm>
          <a:custGeom>
            <a:avLst/>
            <a:gdLst>
              <a:gd name="textAreaLeft" fmla="*/ 30240 w 1366920"/>
              <a:gd name="textAreaRight" fmla="*/ 1336680 w 1366920"/>
              <a:gd name="textAreaTop" fmla="*/ 30240 h 1439640"/>
              <a:gd name="textAreaBottom" fmla="*/ 1409400 h 1439640"/>
            </a:gdLst>
            <a:ahLst/>
            <a:rect l="textAreaLeft" t="textAreaTop" r="textAreaRight" b="textAreaBottom"/>
            <a:pathLst>
              <a:path w="21600" h="22749">
                <a:moveTo>
                  <a:pt x="1637" y="0"/>
                </a:moveTo>
                <a:arcTo wR="1637" hR="1637" stAng="16200000" swAng="-5400000"/>
                <a:lnTo>
                  <a:pt x="0" y="21112"/>
                </a:lnTo>
                <a:arcTo wR="1637" hR="1637" stAng="10800000" swAng="-5400000"/>
                <a:lnTo>
                  <a:pt x="19963" y="2274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งานการวิจัย 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งค์ความรู้และเทคโนโลย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ระบบบริการสุขภาพ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ศึกษาและ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ประชาช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113.5793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880" y="5415120"/>
            <a:ext cx="644760" cy="56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ิ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2560" y="5398920"/>
            <a:ext cx="1409760" cy="1455840"/>
          </a:xfrm>
          <a:custGeom>
            <a:avLst/>
            <a:gdLst>
              <a:gd name="textAreaLeft" fmla="*/ 30960 w 1409760"/>
              <a:gd name="textAreaRight" fmla="*/ 1378800 w 1409760"/>
              <a:gd name="textAreaTop" fmla="*/ 30960 h 1455840"/>
              <a:gd name="textAreaBottom" fmla="*/ 1424880 h 1455840"/>
            </a:gdLst>
            <a:ahLst/>
            <a:rect l="textAreaLeft" t="textAreaTop" r="textAreaRight" b="textAreaBottom"/>
            <a:pathLst>
              <a:path w="21600" h="22306">
                <a:moveTo>
                  <a:pt x="1637" y="0"/>
                </a:moveTo>
                <a:arcTo wR="1637" hR="1637" stAng="16200000" swAng="-5400000"/>
                <a:lnTo>
                  <a:pt x="0" y="20669"/>
                </a:lnTo>
                <a:arcTo wR="1637" hR="1637" stAng="10800000" swAng="-5400000"/>
                <a:lnTo>
                  <a:pt x="19963" y="22306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กลุ่มเป้าหม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รับการถ่ายทอดความรู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สุขภาพเพื่อนำไปสู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ปรับเปลี่ยนพฤติก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6.8606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23360" y="5392800"/>
            <a:ext cx="1447560" cy="1822320"/>
          </a:xfrm>
          <a:custGeom>
            <a:avLst/>
            <a:gdLst>
              <a:gd name="textAreaLeft" fmla="*/ 32040 w 1447560"/>
              <a:gd name="textAreaRight" fmla="*/ 1415520 w 1447560"/>
              <a:gd name="textAreaTop" fmla="*/ 32040 h 1822320"/>
              <a:gd name="textAreaBottom" fmla="*/ 1790280 h 1822320"/>
            </a:gdLst>
            <a:ahLst/>
            <a:rect l="textAreaLeft" t="textAreaTop" r="textAreaRight" b="textAreaBottom"/>
            <a:pathLst>
              <a:path w="21600" h="27191">
                <a:moveTo>
                  <a:pt x="1637" y="0"/>
                </a:moveTo>
                <a:arcTo wR="1637" hR="1637" stAng="16200000" swAng="-5400000"/>
                <a:lnTo>
                  <a:pt x="0" y="25554"/>
                </a:lnTo>
                <a:arcTo wR="1637" hR="1637" stAng="10800000" swAng="-5400000"/>
                <a:lnTo>
                  <a:pt x="19963" y="27191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รายงาน ระบบติดตา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ฝ้าระวังปัญห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าเสพติดได้รับ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ับปรุงและ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ให้ได้ข้อมูลที่มี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7.116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2920" y="5415120"/>
            <a:ext cx="1006560" cy="99828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งานการส่งเสริ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้มครองด้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.8013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5640" y="5415120"/>
            <a:ext cx="1487160" cy="1792080"/>
          </a:xfrm>
          <a:custGeom>
            <a:avLst/>
            <a:gdLst>
              <a:gd name="textAreaLeft" fmla="*/ 32760 w 1487160"/>
              <a:gd name="textAreaRight" fmla="*/ 1454400 w 1487160"/>
              <a:gd name="textAreaTop" fmla="*/ 32760 h 1792080"/>
              <a:gd name="textAreaBottom" fmla="*/ 1759320 h 1792080"/>
            </a:gdLst>
            <a:ahLst/>
            <a:rect l="textAreaLeft" t="textAreaTop" r="textAreaRight" b="textAreaBottom"/>
            <a:pathLst>
              <a:path w="21600" h="26028">
                <a:moveTo>
                  <a:pt x="1637" y="0"/>
                </a:moveTo>
                <a:arcTo wR="1637" hR="1637" stAng="16200000" swAng="-5400000"/>
                <a:lnTo>
                  <a:pt x="0" y="24391"/>
                </a:lnTo>
                <a:arcTo wR="1637" hR="1637" stAng="10800000" swAng="-5400000"/>
                <a:lnTo>
                  <a:pt x="19963" y="26028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สาธารณสุ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หมู่บ้าน 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กครองส่วนท้องถิ่น ภาค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อข่ายได้รับการส่งเสริ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สนับสนุนให้มีกิจก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164.575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8360" y="2058840"/>
            <a:ext cx="179280" cy="201600"/>
          </a:xfrm>
          <a:prstGeom prst="downArrow">
            <a:avLst>
              <a:gd name="adj1" fmla="val 50000"/>
              <a:gd name="adj2" fmla="val 281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03640" y="2058840"/>
            <a:ext cx="179280" cy="201600"/>
          </a:xfrm>
          <a:prstGeom prst="downArrow">
            <a:avLst>
              <a:gd name="adj1" fmla="val 50000"/>
              <a:gd name="adj2" fmla="val 281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700280"/>
            <a:ext cx="4608360" cy="380880"/>
          </a:xfrm>
          <a:prstGeom prst="roundRect">
            <a:avLst>
              <a:gd name="adj" fmla="val 10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ุทธศาสตร์การพัฒนาสังคมและคุณภาพชีวิ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6920" y="3736800"/>
            <a:ext cx="222120" cy="220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2560" y="3736800"/>
            <a:ext cx="222120" cy="220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6360" y="2635200"/>
            <a:ext cx="179280" cy="201600"/>
          </a:xfrm>
          <a:prstGeom prst="downArrow">
            <a:avLst>
              <a:gd name="adj1" fmla="val 50000"/>
              <a:gd name="adj2" fmla="val 281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6560" y="2635200"/>
            <a:ext cx="179640" cy="201600"/>
          </a:xfrm>
          <a:prstGeom prst="downArrow">
            <a:avLst>
              <a:gd name="adj1" fmla="val 50000"/>
              <a:gd name="adj2" fmla="val 280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64360" y="2635200"/>
            <a:ext cx="179640" cy="201600"/>
          </a:xfrm>
          <a:prstGeom prst="downArrow">
            <a:avLst>
              <a:gd name="adj1" fmla="val 50000"/>
              <a:gd name="adj2" fmla="val 280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rot="19047000">
            <a:off x="3627000" y="3646080"/>
            <a:ext cx="223920" cy="378000"/>
          </a:xfrm>
          <a:prstGeom prst="downArrow">
            <a:avLst>
              <a:gd name="adj1" fmla="val 50000"/>
              <a:gd name="adj2" fmla="val 4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40800" y="3736800"/>
            <a:ext cx="222120" cy="220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164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87520" y="2851200"/>
            <a:ext cx="2508120" cy="94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สามารถเข้าถึงหลักประกันสุขภาพ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รับบริการสุขภาพ และบริโภคผลิตภัณฑ์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ี่มีคุณภาพมาตรฐานอย่างทั่วถึงและเป็นธรร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84.9850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2851200"/>
            <a:ext cx="2954160" cy="944640"/>
          </a:xfrm>
          <a:prstGeom prst="roundRect">
            <a:avLst>
              <a:gd name="adj" fmla="val 147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 ผู้เสพและผู้ติดยาเสพติดได้รับการบำบัดรั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ฟื้นฟู เฝ้าระวัง ควบคุมการใช้วัตถุเสพติดให้สามาร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ำเนินชีวิตได้ตามปกติในสังค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7.116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456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456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91640" y="510372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2200" y="4005360"/>
            <a:ext cx="865080" cy="12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้าหมายการให้บริการหน่วยงา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43160" y="3981600"/>
            <a:ext cx="200340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สุขภาพ  ภาครัฐ  เอกชน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สถานประกอบการธุรกิจบริ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มีคุณภาพมาตรฐา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80.1837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70920" y="3981600"/>
            <a:ext cx="163980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รายงาน ระบบติดตามแล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ฝ้าระวังปัญหายาเสพติ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รับการปรับปรุงมี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7.116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3981600"/>
            <a:ext cx="158256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ความรู้ที่จำเป็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พฤติกรรมที่ถูกต้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การดูแล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6.8606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3952800"/>
            <a:ext cx="1584360" cy="122400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สาธารณสุ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หมู่บ้าน ภาคีเครือข่า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ส่วนร่วมในการจัด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ชุมช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164.5751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0920" y="3981600"/>
            <a:ext cx="1241280" cy="1223640"/>
          </a:xfrm>
          <a:prstGeom prst="roundRect">
            <a:avLst>
              <a:gd name="adj" fmla="val 7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โภคมีความรู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ามเข้าใจใน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4.8013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rot="19047000">
            <a:off x="6298200" y="3673080"/>
            <a:ext cx="216000" cy="351000"/>
          </a:xfrm>
          <a:prstGeom prst="downArrow">
            <a:avLst>
              <a:gd name="adj1" fmla="val 50000"/>
              <a:gd name="adj2" fmla="val 40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2920" y="2851200"/>
            <a:ext cx="2232360" cy="944640"/>
          </a:xfrm>
          <a:prstGeom prst="roundRect">
            <a:avLst>
              <a:gd name="adj" fmla="val 147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พฤติกรรมสุขภาพที่ถูกต้อ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มารถลดภาระโรคภัยคุกคา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ความรุนแรงด้านสุขภาพได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(211.4357 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7192800"/>
            <a:ext cx="865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spAutoFit/>
          </a:bodyPr>
          <a:p>
            <a:pPr marL="325440" indent="-325440" algn="ctr">
              <a:lnSpc>
                <a:spcPct val="104000"/>
              </a:lnSpc>
              <a:spcBef>
                <a:spcPts val="938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500" spc="-1" strike="noStrike">
                <a:solidFill>
                  <a:srgbClr val="080808"/>
                </a:solidFill>
                <a:latin typeface="Browallia New"/>
                <a:ea typeface="Browallia New"/>
              </a:rPr>
              <a:t>- 132 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0920" y="495360"/>
            <a:ext cx="865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spAutoFit/>
          </a:bodyPr>
          <a:p>
            <a:pPr marL="325440" indent="-325440" algn="ctr">
              <a:lnSpc>
                <a:spcPct val="104000"/>
              </a:lnSpc>
              <a:spcBef>
                <a:spcPts val="938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500" spc="-1" strike="noStrike">
                <a:solidFill>
                  <a:srgbClr val="080808"/>
                </a:solidFill>
                <a:latin typeface="Browallia New"/>
                <a:ea typeface="Browallia New"/>
              </a:rPr>
              <a:t>- 132 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17:41:46Z</dcterms:created>
  <dc:creator>BKK</dc:creator>
  <dc:description/>
  <dc:language>en-US</dc:language>
  <cp:lastModifiedBy>Microsoft</cp:lastModifiedBy>
  <dcterms:modified xsi:type="dcterms:W3CDTF">2009-11-13T02:50:27Z</dcterms:modified>
  <cp:revision>817</cp:revision>
  <dc:subject/>
  <dc:title>Slide 1</dc:title>
</cp:coreProperties>
</file>