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6320" y="744120"/>
            <a:ext cx="537552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318-BE8E-4125-B16B-3FB614083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706320" y="744480"/>
            <a:ext cx="5375520" cy="3721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สิ้น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790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6308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บุคลากร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13.5698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2.3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ดำเนินงา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01.8661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38.1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ลงทุ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5.6055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.7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เงินอุดหนุน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2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 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1.52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รายจ่ายอื่น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7.5894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2.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06320" y="744480"/>
            <a:ext cx="5375520" cy="3721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สิ้น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790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6308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บุคลากร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13.5698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2.3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ดำเนินงา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01.8661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38.1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ลงทุน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5.6055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5.7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4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เงินอุดหนุน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2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    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1.52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5.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งบรายจ่ายอื่น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17.5894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บาท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(2.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E66-2F4C-4A60-A509-CED0B5F3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181-CC2A-409B-B822-0625F777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B2C-9E97-447C-8A91-280FDA4B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8C6-9410-4AE9-B5B1-C1187554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B29-0E71-46A7-BCD6-39C7B97F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413-E3C0-410B-9892-C14AD3C0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084-5F01-47CC-AEAA-39365F0D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675-8A5A-4BD7-BB25-45D13F70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EC9F-58F1-4C2E-BBD4-3A9169D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4E5-FAE4-402E-8AF2-2855B77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B9A-0C35-48BA-9501-35BB98E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BF6-4E1D-4EBE-B6F2-FE27D89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882D-81D0-435F-AA7D-51603EF4E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146160" y="4341960"/>
            <a:ext cx="9612360" cy="172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6160" y="599904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46160" y="218268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6160" y="3063960"/>
            <a:ext cx="9486720" cy="468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7720" y="5916600"/>
            <a:ext cx="140328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57960" y="4621320"/>
            <a:ext cx="219564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5800" y="4621320"/>
            <a:ext cx="4853160" cy="77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78160" y="3279600"/>
            <a:ext cx="1195560" cy="142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กลุ่มเป้าหมายได้รับการถ่ายทอดความรู้ด้านสุขภาพและสามารถบริหารจัดการด้านสุขภาพได้ด้วยตนเอ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08040" y="1585800"/>
            <a:ext cx="2360520" cy="48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คุ้มครองผู้บริโภ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ด้านบริการสุขภา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440" y="4359240"/>
            <a:ext cx="1747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ภาพของการปฏิบัติราช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17760" y="1403280"/>
            <a:ext cx="2350800" cy="18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8520" y="2962440"/>
            <a:ext cx="102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คุณภาพการให้บริ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0600" y="260280"/>
            <a:ext cx="9653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Strategy  Map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กรมสนับสนุนบริการสุขภา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6480" y="815040"/>
            <a:ext cx="865512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</a:rPr>
              <a:t>วิสัยทัศน์ “เป็นองค์กรหลักในการคุ้มครองผู้บริโภคด้านการบริการสุขภาพและพัฒนาศักยภาพประชาชนให้สามารถพึ่งตนเองด้านสุขภาพได้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520" y="5910120"/>
            <a:ext cx="97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การพัฒนาองค์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0840" y="2168640"/>
            <a:ext cx="1028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ผ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ตามยุทธศาสตร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8720" y="4791960"/>
            <a:ext cx="741240" cy="498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>
              <a:spcBef>
                <a:spcPts val="224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การถ่ายทอดความรู้ด้าน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5760" y="4829040"/>
            <a:ext cx="126684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พัฒนาศักยภาพ ส่งเสริม สนับสนุนองค์การอาสาสมัครสาธารณสุข และภาคีเครือข่า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68840" y="2349360"/>
            <a:ext cx="126540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14840" y="3279600"/>
            <a:ext cx="1192320" cy="142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งค์กรอสม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ปท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และภาคีเครือข่ายมีศักยภาพและได้รับการสนับสนุนให้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19840" y="1459800"/>
            <a:ext cx="2216160" cy="68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การมีส่วนร่วมในการพัฒน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พฤติกรรมสุขภาพของประชาช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19840" y="1393920"/>
            <a:ext cx="2216160" cy="18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4815000"/>
            <a:ext cx="56196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2" idx="0"/>
            <a:endCxn id="56" idx="2"/>
          </p:cNvCxnSpPr>
          <p:nvPr/>
        </p:nvCxnSpPr>
        <p:spPr>
          <a:xfrm flipH="1" flipV="1" rot="5400000">
            <a:off x="2171160" y="1812240"/>
            <a:ext cx="260640" cy="773280"/>
          </a:xfrm>
          <a:prstGeom prst="curvedConnector3">
            <a:avLst>
              <a:gd name="adj1" fmla="val 20193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195720" y="2382840"/>
            <a:ext cx="1332000" cy="5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2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มีความรู้ความเข้าใจในการใช้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3" idx="0"/>
            <a:endCxn id="56" idx="2"/>
          </p:cNvCxnSpPr>
          <p:nvPr/>
        </p:nvCxnSpPr>
        <p:spPr>
          <a:xfrm flipV="1" rot="16200000">
            <a:off x="3117960" y="1638720"/>
            <a:ext cx="314640" cy="1173960"/>
          </a:xfrm>
          <a:prstGeom prst="curvedConnector3">
            <a:avLst>
              <a:gd name="adj1" fmla="val 20962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6" idx="0"/>
            <a:endCxn id="73" idx="2"/>
          </p:cNvCxnSpPr>
          <p:nvPr/>
        </p:nvCxnSpPr>
        <p:spPr>
          <a:xfrm flipH="1" flipV="1" rot="5400000">
            <a:off x="3504240" y="2994120"/>
            <a:ext cx="379800" cy="335520"/>
          </a:xfrm>
          <a:prstGeom prst="curvedConnector3">
            <a:avLst>
              <a:gd name="adj1" fmla="val 25047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6" idx="0"/>
            <a:endCxn id="68" idx="2"/>
          </p:cNvCxnSpPr>
          <p:nvPr/>
        </p:nvCxnSpPr>
        <p:spPr>
          <a:xfrm flipH="1" flipV="1" rot="5400000">
            <a:off x="5610240" y="1831680"/>
            <a:ext cx="209160" cy="826920"/>
          </a:xfrm>
          <a:prstGeom prst="curvedConnector3">
            <a:avLst>
              <a:gd name="adj1" fmla="val 19827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9" idx="0"/>
            <a:endCxn id="72" idx="2"/>
          </p:cNvCxnSpPr>
          <p:nvPr/>
        </p:nvCxnSpPr>
        <p:spPr>
          <a:xfrm flipH="1" flipV="1" rot="5400000">
            <a:off x="1787040" y="3143520"/>
            <a:ext cx="186840" cy="70200"/>
          </a:xfrm>
          <a:prstGeom prst="curvedConnector3">
            <a:avLst>
              <a:gd name="adj1" fmla="val 25096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5" idx="0"/>
            <a:endCxn id="66" idx="2"/>
          </p:cNvCxnSpPr>
          <p:nvPr/>
        </p:nvCxnSpPr>
        <p:spPr>
          <a:xfrm flipH="1" flipV="1" rot="5400000">
            <a:off x="5035320" y="3013560"/>
            <a:ext cx="6840" cy="525960"/>
          </a:xfrm>
          <a:prstGeom prst="curvedConnector5">
            <a:avLst>
              <a:gd name="adj1" fmla="val 100000"/>
              <a:gd name="adj2" fmla="val -114657"/>
              <a:gd name="adj3" fmla="val -22077777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8697960" y="4683240"/>
            <a:ext cx="1049400" cy="90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ได้รับการปรับปรุงและพัฒ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64640" y="3129120"/>
            <a:ext cx="1600200" cy="150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64640" y="3088080"/>
            <a:ext cx="1600200" cy="87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ความมั่นคงขอ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ชีวิตและสังคม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กระทรวงฯ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24520" y="3279600"/>
            <a:ext cx="986040" cy="159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ได้รับการปรับปรุ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มีคุณ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0"/>
            <a:endCxn id="84" idx="2"/>
          </p:cNvCxnSpPr>
          <p:nvPr/>
        </p:nvCxnSpPr>
        <p:spPr>
          <a:xfrm rot="5400000">
            <a:off x="8174880" y="3825360"/>
            <a:ext cx="190080" cy="1905480"/>
          </a:xfrm>
          <a:prstGeom prst="curvedConnector5">
            <a:avLst>
              <a:gd name="adj1" fmla="val -379"/>
              <a:gd name="adj2" fmla="val 50755"/>
              <a:gd name="adj3" fmla="val 101328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216480" y="2349360"/>
            <a:ext cx="1122480" cy="9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อสม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ภาคีเครือข่าย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2328840"/>
            <a:ext cx="1900440" cy="75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1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และสถานประกอบการธุรกิจบริการสุขภาพมีคุณภาพตามมาตรฐา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1600" y="4815000"/>
            <a:ext cx="561960" cy="7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งานสุขศึกษ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5600" y="4815000"/>
            <a:ext cx="56340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อาคารสถานที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9240" y="4815000"/>
            <a:ext cx="561960" cy="77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วิศวกรรมการแพทย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822920"/>
            <a:ext cx="77472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บริการสุขภาพภาคเอกช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75080" y="4822920"/>
            <a:ext cx="84456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ประกอบการธุรกิจ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67" idx="0"/>
            <a:endCxn id="86" idx="2"/>
          </p:cNvCxnSpPr>
          <p:nvPr/>
        </p:nvCxnSpPr>
        <p:spPr>
          <a:xfrm flipH="1" flipV="1" rot="5400000">
            <a:off x="6441120" y="2943000"/>
            <a:ext cx="6840" cy="667080"/>
          </a:xfrm>
          <a:prstGeom prst="curvedConnector5">
            <a:avLst>
              <a:gd name="adj1" fmla="val 14427777"/>
              <a:gd name="adj2" fmla="val 184881"/>
              <a:gd name="adj3" fmla="val 14427777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6" idx="0"/>
            <a:endCxn id="68" idx="2"/>
          </p:cNvCxnSpPr>
          <p:nvPr/>
        </p:nvCxnSpPr>
        <p:spPr>
          <a:xfrm flipV="1" rot="16200000">
            <a:off x="6348240" y="1919880"/>
            <a:ext cx="209160" cy="650160"/>
          </a:xfrm>
          <a:prstGeom prst="curvedConnector3">
            <a:avLst>
              <a:gd name="adj1" fmla="val 19827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825480" y="3271680"/>
            <a:ext cx="2040120" cy="1258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5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สถานประกอบการธุรกิจบริการสุขภาพ และ ผู้ประกอบโรคศิลปะ ได้รับการส่งเสริม พัฒนา สนับสนุน ประสาน ควบคุมกำกับ ให้มีคุณภาพมาตรฐ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63880" y="3351240"/>
            <a:ext cx="1125360" cy="75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6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ได้รับการส่งเสริมคุ้มครองด้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84" idx="3"/>
            <a:endCxn id="83" idx="1"/>
          </p:cNvCxnSpPr>
          <p:nvPr/>
        </p:nvCxnSpPr>
        <p:spPr>
          <a:xfrm flipV="1">
            <a:off x="7810560" y="3527280"/>
            <a:ext cx="154440" cy="549360"/>
          </a:xfrm>
          <a:prstGeom prst="curvedConnector3">
            <a:avLst>
              <a:gd name="adj1" fmla="val 17990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335560" y="4619520"/>
            <a:ext cx="912960" cy="1184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ngsana News"/>
              </a:rPr>
              <a:t>11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  <a:cs typeface="Angsana News"/>
              </a:rPr>
              <a:t>กระบวนการส่งเสริมการคุ้มครองด้านบริการสุขภาพระหว่างผู้ให้บริการและผู้รับบริก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54" idx="0"/>
            <a:endCxn id="79" idx="2"/>
          </p:cNvCxnSpPr>
          <p:nvPr/>
        </p:nvCxnSpPr>
        <p:spPr>
          <a:xfrm flipV="1" rot="16200000">
            <a:off x="2298240" y="4077000"/>
            <a:ext cx="91440" cy="997200"/>
          </a:xfrm>
          <a:prstGeom prst="curvedConnector3">
            <a:avLst>
              <a:gd name="adj1" fmla="val 27272"/>
            </a:avLst>
          </a:prstGeom>
          <a:ln w="2556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0"/>
            <a:endCxn id="76" idx="2"/>
          </p:cNvCxnSpPr>
          <p:nvPr/>
        </p:nvCxnSpPr>
        <p:spPr>
          <a:xfrm flipV="1" rot="16200000">
            <a:off x="4403160" y="3230640"/>
            <a:ext cx="512280" cy="2265840"/>
          </a:xfrm>
          <a:prstGeom prst="curvedConnector3">
            <a:avLst>
              <a:gd name="adj1" fmla="val 25105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53" idx="0"/>
            <a:endCxn id="55" idx="2"/>
          </p:cNvCxnSpPr>
          <p:nvPr/>
        </p:nvCxnSpPr>
        <p:spPr>
          <a:xfrm rot="5400000">
            <a:off x="6073560" y="3323520"/>
            <a:ext cx="84600" cy="2680200"/>
          </a:xfrm>
          <a:prstGeom prst="curvedConnector5">
            <a:avLst>
              <a:gd name="adj1" fmla="val -4273"/>
              <a:gd name="adj2" fmla="val 59322"/>
              <a:gd name="adj3" fmla="val 103418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53" idx="0"/>
            <a:endCxn id="67" idx="2"/>
          </p:cNvCxnSpPr>
          <p:nvPr/>
        </p:nvCxnSpPr>
        <p:spPr>
          <a:xfrm rot="5400000">
            <a:off x="6741000" y="3991320"/>
            <a:ext cx="84600" cy="1344960"/>
          </a:xfrm>
          <a:prstGeom prst="curvedConnector5">
            <a:avLst>
              <a:gd name="adj1" fmla="val -1592307"/>
              <a:gd name="adj2" fmla="val 144712"/>
              <a:gd name="adj3" fmla="val -1592307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4457880" y="5526000"/>
            <a:ext cx="140472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36760" y="5624640"/>
            <a:ext cx="7377120" cy="19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ศึกษา วิเคราะห์ วิจัย และพัฒนาองค์ความรู้เทคโนโลย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6111720"/>
            <a:ext cx="1401840" cy="68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บริหารจัดการความรู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95720" y="6111720"/>
            <a:ext cx="1684080" cy="482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เทคโนโลยีสารสนเท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0560" y="6111720"/>
            <a:ext cx="1484280" cy="68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บริหา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รจัดการโด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ใช้หลักธรรมาภิบา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14840" y="6111720"/>
            <a:ext cx="1471680" cy="68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บริห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ทรัพยากรบุคค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5120" y="4822920"/>
            <a:ext cx="633600" cy="6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การประกอบโรคศิลป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48160" y="11592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6453360"/>
            <a:ext cx="14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- 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146160" y="4196880"/>
            <a:ext cx="9612360" cy="176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6160" y="585468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6160" y="2038320"/>
            <a:ext cx="9612360" cy="158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6160" y="2919240"/>
            <a:ext cx="9486720" cy="5040"/>
          </a:xfrm>
          <a:prstGeom prst="line">
            <a:avLst/>
          </a:prstGeom>
          <a:ln w="2844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27720" y="5772240"/>
            <a:ext cx="140328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7960" y="4476600"/>
            <a:ext cx="2195640" cy="8416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5800" y="4476600"/>
            <a:ext cx="4853160" cy="7765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i-IN" sz="1100" spc="-1" strike="noStrike">
                <a:solidFill>
                  <a:srgbClr val="000000"/>
                </a:solidFill>
                <a:latin typeface="Arial"/>
              </a:rPr>
              <a:t>กระบวนการส่งเสริมพัฒนา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8160" y="3135240"/>
            <a:ext cx="1195560" cy="142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กลุ่มเป้าหมายได้รับการถ่ายทอดความรู้ด้านสุขภาพและสามารถบริหารจัดการด้านสุขภาพได้ด้วยตนเอ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8040" y="1441440"/>
            <a:ext cx="2360520" cy="48276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คุ้มครองผู้บริโภ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ด้านบริการสุขภาพ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440" y="4214880"/>
            <a:ext cx="1747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ภาพของการปฏิบัติราช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7760" y="1258920"/>
            <a:ext cx="2350800" cy="18252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520" y="2817720"/>
            <a:ext cx="102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คุณภาพการให้บริก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600" y="162000"/>
            <a:ext cx="96537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Strategy  Map </a:t>
            </a:r>
            <a:r>
              <a:rPr b="1" lang="en-US" sz="3400" spc="-1" strike="noStrike">
                <a:solidFill>
                  <a:srgbClr val="000000"/>
                </a:solidFill>
                <a:latin typeface="Angsana New"/>
              </a:rPr>
              <a:t>กรมสนับสนุนบริการสุขภา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</a:rPr>
              <a:t>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6480" y="615240"/>
            <a:ext cx="865512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rial"/>
              </a:rPr>
              <a:t>วิสัยทัศน์ “เป็นองค์กรหลักในการคุ้มครองผู้บริโภคด้านการบริการสุขภาพและพัฒนาศักยภาพประชาชนให้สามารถพึ่งตนเองด้านสุขภาพได้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520" y="5765760"/>
            <a:ext cx="97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การพัฒนาองค์ก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40" y="2023920"/>
            <a:ext cx="1028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สิทธิผ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ตามยุทธศาสตร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8720" y="4647600"/>
            <a:ext cx="741240" cy="49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>
              <a:spcBef>
                <a:spcPts val="224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การถ่ายทอดความรู้ด้าน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5760" y="4684680"/>
            <a:ext cx="1266840" cy="63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พัฒนาศักยภาพ ส่งเสริม สนับสนุนองค์การอาสาสมัครสาธารณสุข และภาคีเครือข่า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8840" y="2205000"/>
            <a:ext cx="1265400" cy="92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ประชาชนมีความรู้ที่จำเป็นและพฤติกรรมที่ถูกต้องในการดูแล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14840" y="3135240"/>
            <a:ext cx="1192320" cy="14259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งค์กรอสม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อปท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th-TH" sz="1100" spc="-1" strike="noStrike">
                <a:solidFill>
                  <a:srgbClr val="000000"/>
                </a:solidFill>
                <a:latin typeface="Arial"/>
              </a:rPr>
              <a:t>และภาคีเครือข่ายมีศักยภาพและได้รับการสนับสนุนให้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19840" y="1299600"/>
            <a:ext cx="2216160" cy="68076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การมีส่วนร่วมในการพัฒน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พฤติกรรมสุขภาพของประชาช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9840" y="1233360"/>
            <a:ext cx="2216160" cy="181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4670280"/>
            <a:ext cx="56196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0"/>
            <a:endCxn id="117" idx="2"/>
          </p:cNvCxnSpPr>
          <p:nvPr/>
        </p:nvCxnSpPr>
        <p:spPr>
          <a:xfrm flipH="1" flipV="1" rot="5400000">
            <a:off x="2190960" y="1686240"/>
            <a:ext cx="223200" cy="773640"/>
          </a:xfrm>
          <a:prstGeom prst="curvedConnector5">
            <a:avLst>
              <a:gd name="adj1" fmla="val 54281"/>
              <a:gd name="adj2" fmla="val 50000"/>
              <a:gd name="adj3" fmla="val 54281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195720" y="2238480"/>
            <a:ext cx="1332000" cy="58896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2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มีความรู้ความเข้าใจในการใช้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0"/>
            <a:endCxn id="117" idx="2"/>
          </p:cNvCxnSpPr>
          <p:nvPr/>
        </p:nvCxnSpPr>
        <p:spPr>
          <a:xfrm flipV="1" rot="16200000">
            <a:off x="3137040" y="1513080"/>
            <a:ext cx="277200" cy="1173960"/>
          </a:xfrm>
          <a:prstGeom prst="curvedConnector5">
            <a:avLst>
              <a:gd name="adj1" fmla="val 53446"/>
              <a:gd name="adj2" fmla="val 50000"/>
              <a:gd name="adj3" fmla="val 53446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4" idx="2"/>
          </p:cNvCxnSpPr>
          <p:nvPr/>
        </p:nvCxnSpPr>
        <p:spPr>
          <a:xfrm flipH="1" flipV="1" rot="5400000">
            <a:off x="3422880" y="2767320"/>
            <a:ext cx="543600" cy="33588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7" idx="0"/>
            <a:endCxn id="129" idx="2"/>
          </p:cNvCxnSpPr>
          <p:nvPr/>
        </p:nvCxnSpPr>
        <p:spPr>
          <a:xfrm flipH="1" flipV="1" rot="5400000">
            <a:off x="5571720" y="1648800"/>
            <a:ext cx="286560" cy="826560"/>
          </a:xfrm>
          <a:prstGeom prst="curvedConnector5">
            <a:avLst>
              <a:gd name="adj1" fmla="val 53333"/>
              <a:gd name="adj2" fmla="val 49978"/>
              <a:gd name="adj3" fmla="val 53333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40" idx="0"/>
            <a:endCxn id="133" idx="2"/>
          </p:cNvCxnSpPr>
          <p:nvPr/>
        </p:nvCxnSpPr>
        <p:spPr>
          <a:xfrm flipH="1" flipV="1" rot="5400000">
            <a:off x="1706400" y="2917440"/>
            <a:ext cx="349920" cy="70200"/>
          </a:xfrm>
          <a:prstGeom prst="curvedConnector5">
            <a:avLst>
              <a:gd name="adj1" fmla="val 49948"/>
              <a:gd name="adj2" fmla="val 50000"/>
              <a:gd name="adj3" fmla="val 49948"/>
            </a:avLst>
          </a:prstGeom>
          <a:ln w="255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6" idx="0"/>
            <a:endCxn id="127" idx="2"/>
          </p:cNvCxnSpPr>
          <p:nvPr/>
        </p:nvCxnSpPr>
        <p:spPr>
          <a:xfrm flipH="1" flipV="1" rot="5400000">
            <a:off x="4874040" y="2706840"/>
            <a:ext cx="330840" cy="525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697960" y="4538520"/>
            <a:ext cx="1049400" cy="9097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ได้รับการปรับปรุงและพัฒน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64640" y="2984400"/>
            <a:ext cx="1600200" cy="150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ngsana New"/>
              </a:rPr>
              <a:t>ประเด็นยุทธศาสตร์ที่ </a:t>
            </a:r>
            <a:r>
              <a:rPr b="1" lang="en-US" sz="13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64640" y="2943720"/>
            <a:ext cx="1600200" cy="87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200" anchor="ctr">
            <a:spAutoFit/>
          </a:bodyPr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เสริมสร้างความมั่นคงขอ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ชีวิตและสังคม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</a:rPr>
              <a:t>กระทรวงฯ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24520" y="3135240"/>
            <a:ext cx="986040" cy="159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ระบบรายงาน ระบบติดตามและเฝ้าระวังปัญหายาเสพติ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ได้รับการปรับปรุ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มีคุณ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0"/>
            <a:endCxn id="145" idx="2"/>
          </p:cNvCxnSpPr>
          <p:nvPr/>
        </p:nvCxnSpPr>
        <p:spPr>
          <a:xfrm flipV="1" rot="16200000">
            <a:off x="8037000" y="3352320"/>
            <a:ext cx="467280" cy="1905480"/>
          </a:xfrm>
          <a:prstGeom prst="curvedConnector5">
            <a:avLst>
              <a:gd name="adj1" fmla="val 49961"/>
              <a:gd name="adj2" fmla="val 50000"/>
              <a:gd name="adj3" fmla="val 49961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216480" y="2205000"/>
            <a:ext cx="1122480" cy="923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อสม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ภาคีเครือข่ายมีส่วนร่วมในการจัดกิจกรรมด้าน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65160" y="2184480"/>
            <a:ext cx="1900440" cy="756360"/>
          </a:xfrm>
          <a:prstGeom prst="rect">
            <a:avLst/>
          </a:prstGeom>
          <a:solidFill>
            <a:srgbClr val="cc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1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และสถานประกอบการธุรกิจบริการสุขภาพมีคุณภาพตามมาตรฐา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1600" y="4670280"/>
            <a:ext cx="561960" cy="772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งานสุขศึกษ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5600" y="4670280"/>
            <a:ext cx="56340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อาคารสถานที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9240" y="4670280"/>
            <a:ext cx="561960" cy="772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วิศวกรรมการแพทย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4678200"/>
            <a:ext cx="77472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บริการสุขภาพภาคเอกช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75080" y="4678200"/>
            <a:ext cx="84456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สถานประกอบการธุรกิจบริการสุขภา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28" idx="0"/>
            <a:endCxn id="147" idx="2"/>
          </p:cNvCxnSpPr>
          <p:nvPr/>
        </p:nvCxnSpPr>
        <p:spPr>
          <a:xfrm flipH="1" flipV="1" rot="5400000">
            <a:off x="6279840" y="2635920"/>
            <a:ext cx="330840" cy="667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0"/>
            <a:endCxn id="129" idx="2"/>
          </p:cNvCxnSpPr>
          <p:nvPr/>
        </p:nvCxnSpPr>
        <p:spPr>
          <a:xfrm flipV="1" rot="16200000">
            <a:off x="6310080" y="1735920"/>
            <a:ext cx="286560" cy="651600"/>
          </a:xfrm>
          <a:prstGeom prst="curvedConnector5">
            <a:avLst>
              <a:gd name="adj1" fmla="val 53333"/>
              <a:gd name="adj2" fmla="val 49972"/>
              <a:gd name="adj3" fmla="val 53333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825480" y="3127320"/>
            <a:ext cx="2040120" cy="1258560"/>
          </a:xfrm>
          <a:prstGeom prst="rect">
            <a:avLst/>
          </a:prstGeom>
          <a:solidFill>
            <a:srgbClr val="cc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5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สถานบริการสุขภาพภาครัฐ ภาคเอกชน สถานประกอบการธุรกิจบริการสุขภาพ และ ผู้ประกอบโรคศิลปะ ได้รับการส่งเสริม พัฒนา สนับสนุน ประสาน ควบคุมกำกับ ให้มีคุณภาพมาตรฐ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3880" y="3206880"/>
            <a:ext cx="1125360" cy="75636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ngsana News"/>
              </a:rPr>
              <a:t>6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ngsana News"/>
              </a:rPr>
              <a:t>ผู้บริโภคได้รับการส่งเสริมคุ้มครองด้านบริการสุขภา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5" idx="3"/>
            <a:endCxn id="144" idx="1"/>
          </p:cNvCxnSpPr>
          <p:nvPr/>
        </p:nvCxnSpPr>
        <p:spPr>
          <a:xfrm flipV="1">
            <a:off x="7810200" y="3382200"/>
            <a:ext cx="135720" cy="221400"/>
          </a:xfrm>
          <a:prstGeom prst="curvedConnector5">
            <a:avLst>
              <a:gd name="adj1" fmla="val 56382"/>
              <a:gd name="adj2" fmla="val 50000"/>
              <a:gd name="adj3" fmla="val 56382"/>
            </a:avLst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335560" y="4475160"/>
            <a:ext cx="912960" cy="118404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ngsana News"/>
              </a:rPr>
              <a:t>11. </a:t>
            </a:r>
            <a:r>
              <a:rPr b="1" lang="hi-IN" sz="900" spc="-1" strike="noStrike">
                <a:solidFill>
                  <a:srgbClr val="000000"/>
                </a:solidFill>
                <a:latin typeface="Arial"/>
                <a:cs typeface="Angsana News"/>
              </a:rPr>
              <a:t>กระบวนการส่งเสริมการคุ้มครองด้านบริการสุขภาพระหว่างผู้ให้บริการและผู้รับบริก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15" idx="0"/>
            <a:endCxn id="140" idx="2"/>
          </p:cNvCxnSpPr>
          <p:nvPr/>
        </p:nvCxnSpPr>
        <p:spPr>
          <a:xfrm flipV="1" rot="16200000">
            <a:off x="2134800" y="3768120"/>
            <a:ext cx="419760" cy="99756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2556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6" idx="0"/>
            <a:endCxn id="137" idx="2"/>
          </p:cNvCxnSpPr>
          <p:nvPr/>
        </p:nvCxnSpPr>
        <p:spPr>
          <a:xfrm flipV="1" rot="16200000">
            <a:off x="4322160" y="3004560"/>
            <a:ext cx="675360" cy="2265840"/>
          </a:xfrm>
          <a:prstGeom prst="curvedConnector5">
            <a:avLst>
              <a:gd name="adj1" fmla="val 30346"/>
              <a:gd name="adj2" fmla="val 49992"/>
              <a:gd name="adj3" fmla="val 30346"/>
            </a:avLst>
          </a:prstGeom>
          <a:ln w="25560">
            <a:solidFill>
              <a:srgbClr val="ff9933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14" idx="0"/>
            <a:endCxn id="116" idx="2"/>
          </p:cNvCxnSpPr>
          <p:nvPr/>
        </p:nvCxnSpPr>
        <p:spPr>
          <a:xfrm flipV="1" rot="16200000">
            <a:off x="5913720" y="2934000"/>
            <a:ext cx="405360" cy="2680200"/>
          </a:xfrm>
          <a:prstGeom prst="curvedConnector5">
            <a:avLst>
              <a:gd name="adj1" fmla="val 49777"/>
              <a:gd name="adj2" fmla="val 50000"/>
              <a:gd name="adj3" fmla="val 49777"/>
            </a:avLst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14" idx="0"/>
            <a:endCxn id="128" idx="2"/>
          </p:cNvCxnSpPr>
          <p:nvPr/>
        </p:nvCxnSpPr>
        <p:spPr>
          <a:xfrm flipV="1" rot="16200000">
            <a:off x="6581160" y="3601440"/>
            <a:ext cx="405360" cy="1345320"/>
          </a:xfrm>
          <a:prstGeom prst="curvedConnector5">
            <a:avLst>
              <a:gd name="adj1" fmla="val 63911"/>
              <a:gd name="adj2" fmla="val 50000"/>
              <a:gd name="adj3" fmla="val 63911"/>
            </a:avLst>
          </a:prstGeom>
          <a:ln w="25560">
            <a:solidFill>
              <a:srgbClr val="cc0099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457880" y="5381640"/>
            <a:ext cx="1404720" cy="163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36760" y="5479920"/>
            <a:ext cx="7377120" cy="1922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hi-IN" sz="1100" spc="-1" strike="noStrike">
                <a:solidFill>
                  <a:srgbClr val="000000"/>
                </a:solidFill>
                <a:latin typeface="Arial"/>
              </a:rPr>
              <a:t>ศึกษา วิเคราะห์ วิจัย และพัฒนาองค์ความรู้เทคโนโลย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31920" y="5967360"/>
            <a:ext cx="1401840" cy="680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บริหารจัดการความรู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95720" y="5967360"/>
            <a:ext cx="1684080" cy="482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เทคโนโลยีสารสนเท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0560" y="5967360"/>
            <a:ext cx="1484280" cy="680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</a:rPr>
              <a:t>บริหา</a:t>
            </a: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รจัดการโด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ใช้หลักธรรมาภิบา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14840" y="5967360"/>
            <a:ext cx="1471680" cy="680760"/>
          </a:xfrm>
          <a:prstGeom prst="rect">
            <a:avLst/>
          </a:prstGeom>
          <a:solidFill>
            <a:srgbClr val="66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พัฒนาระบบบริหาร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Arial"/>
                <a:cs typeface="Angsana News"/>
              </a:rPr>
              <a:t>ทรัพยากรบุคค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5120" y="4678200"/>
            <a:ext cx="633600" cy="635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hi-IN" sz="900" spc="-1" strike="noStrike">
                <a:solidFill>
                  <a:srgbClr val="000000"/>
                </a:solidFill>
                <a:latin typeface="Arial"/>
              </a:rPr>
              <a:t>มาตรฐานการประกอบโรคศิลป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1:29:15Z</dcterms:created>
  <dc:creator>duangmarn</dc:creator>
  <dc:description/>
  <dc:language>en-US</dc:language>
  <cp:lastModifiedBy>Microsoft</cp:lastModifiedBy>
  <dcterms:modified xsi:type="dcterms:W3CDTF">2008-11-08T13:54:30Z</dcterms:modified>
  <cp:revision>387</cp:revision>
  <dc:subject/>
  <dc:title>ภาพนิ่ง 1</dc:title>
</cp:coreProperties>
</file>