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152063" cy="7616825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33BC-5122-4551-94D7-2EAEB642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3464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7960" y="4386240"/>
            <a:ext cx="913464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0B9C-D19E-4E8C-B08D-53962074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88680" y="17780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07960" y="43862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188680" y="43862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1E5C-322A-434B-A720-47986972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120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96760" y="1778040"/>
            <a:ext cx="294120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85200" y="1778040"/>
            <a:ext cx="294120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07960" y="4386240"/>
            <a:ext cx="294120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96760" y="4386240"/>
            <a:ext cx="294120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685200" y="4386240"/>
            <a:ext cx="294120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8BB7-667D-4088-BAFC-8FE364B79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2405E-E640-4163-9B80-8C098796D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3464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E88AF-07E7-4F33-8DE7-741CED1E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34640" cy="4992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88834-043C-45E7-B924-5ACBCD70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57520" cy="4992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88680" y="1778040"/>
            <a:ext cx="4457520" cy="4992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59D08-35D3-402F-85ED-DE1FBF60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C14FB-E277-4BC8-9306-05746B9E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07960" y="253800"/>
            <a:ext cx="913464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B88A7-DF7A-4376-B8B7-F5EA1837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88680" y="1778040"/>
            <a:ext cx="4457520" cy="4992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7960" y="43862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4A07C-D380-4E41-B2DF-1FBC48FA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3464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1DCA-63DA-48E8-B1B9-2D2A9F6D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57520" cy="4992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88680" y="17780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88680" y="43862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DBB87-A58F-4707-B747-C7BBA6B8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88680" y="17780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7960" y="4386240"/>
            <a:ext cx="913464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8F5D0-9D0B-4620-A46C-50E6FD26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3464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7960" y="4386240"/>
            <a:ext cx="913464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E1A44-9336-43FF-A238-C655656E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88680" y="17780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7960" y="43862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188680" y="43862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D5F9E5-41FA-4089-826D-B5622B639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120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96760" y="1778040"/>
            <a:ext cx="294120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685200" y="1778040"/>
            <a:ext cx="294120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07960" y="4386240"/>
            <a:ext cx="294120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96760" y="4386240"/>
            <a:ext cx="294120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685200" y="4386240"/>
            <a:ext cx="294120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EFC93-E148-4A1D-8987-25F305D1C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34640" cy="4992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3BFD-CCBB-472E-AB07-4175EE24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57520" cy="4992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8680" y="1778040"/>
            <a:ext cx="4457520" cy="4992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14AF-FEBA-40AA-8C81-62676A48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E81B-E15E-4562-9E64-5D3D9658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507960" y="253800"/>
            <a:ext cx="913464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BBC8-D384-4C25-970B-2F94504B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88680" y="1778040"/>
            <a:ext cx="4457520" cy="4992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7960" y="43862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D910-CEF8-421E-8704-32765457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57520" cy="4992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88680" y="17780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88680" y="43862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D561-C463-4134-80B9-D11CC36F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88680" y="1778040"/>
            <a:ext cx="445752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07960" y="4386240"/>
            <a:ext cx="9134640" cy="2381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9FBE-1C14-4F00-B47C-5BDCBB30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150200" cy="7616160"/>
            <a:chOff x="0" y="0"/>
            <a:chExt cx="10150200" cy="7616160"/>
          </a:xfrm>
        </p:grpSpPr>
        <p:sp>
          <p:nvSpPr>
            <p:cNvPr id="1" name=""/>
            <p:cNvSpPr/>
            <p:nvPr/>
          </p:nvSpPr>
          <p:spPr>
            <a:xfrm>
              <a:off x="0" y="5416200"/>
              <a:ext cx="10150200" cy="219996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0150200" cy="541620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935760" y="6956280"/>
            <a:ext cx="3214800" cy="6764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686640"/>
            <a:ext cx="8711280" cy="950040"/>
            <a:chOff x="0" y="6686640"/>
            <a:chExt cx="8711280" cy="950040"/>
          </a:xfrm>
        </p:grpSpPr>
        <p:sp>
          <p:nvSpPr>
            <p:cNvPr id="5" name=""/>
            <p:cNvSpPr/>
            <p:nvPr/>
          </p:nvSpPr>
          <p:spPr>
            <a:xfrm>
              <a:off x="2622240" y="6686640"/>
              <a:ext cx="5709240" cy="94320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4380840" y="6686640"/>
              <a:ext cx="4330440" cy="950040"/>
              <a:chOff x="4380840" y="6686640"/>
              <a:chExt cx="4330440" cy="950040"/>
            </a:xfrm>
          </p:grpSpPr>
          <p:sp>
            <p:nvSpPr>
              <p:cNvPr id="7" name=""/>
              <p:cNvSpPr/>
              <p:nvPr/>
            </p:nvSpPr>
            <p:spPr>
              <a:xfrm>
                <a:off x="6956640" y="6698880"/>
                <a:ext cx="1754640" cy="9378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717080" y="6686640"/>
                <a:ext cx="327600" cy="69516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338800" y="6864120"/>
                <a:ext cx="666000" cy="47664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392520" y="6816600"/>
                <a:ext cx="273240" cy="1299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380840" y="6804360"/>
                <a:ext cx="73800" cy="14220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686640"/>
              <a:ext cx="7006320" cy="94176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95160" y="6688080"/>
            <a:ext cx="6311880" cy="942840"/>
            <a:chOff x="695160" y="6688080"/>
            <a:chExt cx="6311880" cy="942840"/>
          </a:xfrm>
        </p:grpSpPr>
        <p:sp>
          <p:nvSpPr>
            <p:cNvPr id="14" name=""/>
            <p:cNvSpPr/>
            <p:nvPr/>
          </p:nvSpPr>
          <p:spPr>
            <a:xfrm>
              <a:off x="2106720" y="6688080"/>
              <a:ext cx="643320" cy="51264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423600" y="6751440"/>
              <a:ext cx="3583440" cy="87948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224520" y="6740640"/>
              <a:ext cx="124920" cy="10728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05520" y="6774120"/>
              <a:ext cx="283680" cy="28872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243080" y="6795360"/>
              <a:ext cx="103680" cy="10728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95160" y="6719400"/>
              <a:ext cx="431640" cy="364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7960" y="253800"/>
            <a:ext cx="913464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34640" cy="4992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25480" indent="-3175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68280" indent="-25236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776240" indent="-25380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284560" indent="-25416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284560" indent="-2541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284560" indent="-2541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507600" y="6940080"/>
            <a:ext cx="2368440" cy="506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th-TH" sz="13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th-TH" sz="1300" spc="-1" strike="noStrike">
                <a:solidFill>
                  <a:srgbClr val="ffffff"/>
                </a:solidFill>
                <a:latin typeface="Arial"/>
                <a:ea typeface="Angsana New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468600" y="6940080"/>
            <a:ext cx="3213360" cy="506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ngsana New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7273800" y="6940080"/>
            <a:ext cx="2368800" cy="506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6C78509E-A119-495C-A975-5375BE70CDBF}" type="slidenum">
              <a:rPr b="0" lang="en-US" sz="1300" spc="-1" strike="noStrike">
                <a:solidFill>
                  <a:srgbClr val="ffffff"/>
                </a:solidFill>
                <a:latin typeface="Arial"/>
                <a:ea typeface="Angsana New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2320"/>
            <a:ext cx="10150200" cy="7616160"/>
            <a:chOff x="-6480" y="22320"/>
            <a:chExt cx="10150200" cy="7616160"/>
          </a:xfrm>
        </p:grpSpPr>
        <p:sp>
          <p:nvSpPr>
            <p:cNvPr id="62" name=""/>
            <p:cNvSpPr/>
            <p:nvPr/>
          </p:nvSpPr>
          <p:spPr>
            <a:xfrm>
              <a:off x="-6480" y="5438520"/>
              <a:ext cx="10150200" cy="219996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2320"/>
              <a:ext cx="10150200" cy="541620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929280" y="6962760"/>
            <a:ext cx="3214800" cy="6764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702480"/>
            <a:ext cx="8707680" cy="944280"/>
            <a:chOff x="-1440" y="6702480"/>
            <a:chExt cx="8707680" cy="944280"/>
          </a:xfrm>
        </p:grpSpPr>
        <p:sp>
          <p:nvSpPr>
            <p:cNvPr id="66" name=""/>
            <p:cNvSpPr/>
            <p:nvPr/>
          </p:nvSpPr>
          <p:spPr>
            <a:xfrm>
              <a:off x="2620800" y="6702480"/>
              <a:ext cx="5709240" cy="9442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4379400" y="6702480"/>
              <a:ext cx="4326840" cy="943920"/>
              <a:chOff x="4379400" y="6702480"/>
              <a:chExt cx="4326840" cy="943920"/>
            </a:xfrm>
          </p:grpSpPr>
          <p:sp>
            <p:nvSpPr>
              <p:cNvPr id="68" name=""/>
              <p:cNvSpPr/>
              <p:nvPr/>
            </p:nvSpPr>
            <p:spPr>
              <a:xfrm>
                <a:off x="6955200" y="6714720"/>
                <a:ext cx="1751040" cy="93168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715640" y="6702480"/>
                <a:ext cx="327600" cy="69588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337360" y="6879960"/>
                <a:ext cx="666000" cy="47736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391080" y="6832440"/>
                <a:ext cx="273240" cy="1299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379400" y="6820200"/>
                <a:ext cx="73800" cy="14256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702480"/>
              <a:ext cx="7006320" cy="9428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95160" y="6688080"/>
            <a:ext cx="6311880" cy="942840"/>
            <a:chOff x="695160" y="6688080"/>
            <a:chExt cx="6311880" cy="942840"/>
          </a:xfrm>
        </p:grpSpPr>
        <p:sp>
          <p:nvSpPr>
            <p:cNvPr id="75" name=""/>
            <p:cNvSpPr/>
            <p:nvPr/>
          </p:nvSpPr>
          <p:spPr>
            <a:xfrm>
              <a:off x="2106720" y="6688080"/>
              <a:ext cx="643320" cy="51264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23600" y="6751440"/>
              <a:ext cx="3583440" cy="87948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24520" y="6740640"/>
              <a:ext cx="124920" cy="10728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505520" y="6774120"/>
              <a:ext cx="283680" cy="28872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43080" y="6795360"/>
              <a:ext cx="103680" cy="10728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5160" y="6719400"/>
              <a:ext cx="431640" cy="364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7960" y="1608120"/>
            <a:ext cx="9134640" cy="1928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507600" y="6940080"/>
            <a:ext cx="2368440" cy="506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th-TH" sz="13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th-TH" sz="1300" spc="-1" strike="noStrike">
                <a:solidFill>
                  <a:srgbClr val="ffffff"/>
                </a:solidFill>
                <a:latin typeface="Arial"/>
                <a:ea typeface="Angsana New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7273800" y="6940080"/>
            <a:ext cx="2368800" cy="506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09ADB28C-6657-4901-B1DB-A4F3EF046DF0}" type="slidenum">
              <a:rPr b="0" lang="en-US" sz="1300" spc="-1" strike="noStrike">
                <a:solidFill>
                  <a:srgbClr val="ffffff"/>
                </a:solidFill>
                <a:latin typeface="Arial"/>
                <a:ea typeface="Angsana New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468600" y="6940080"/>
            <a:ext cx="3213360" cy="506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ngsana New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34880" y="212760"/>
            <a:ext cx="9480600" cy="11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2400" spc="-1" strike="noStrike">
                <a:solidFill>
                  <a:srgbClr val="ff33cc"/>
                </a:solidFill>
                <a:latin typeface="Cordia New"/>
                <a:cs typeface="LilyUPC"/>
              </a:rPr>
              <a:t>แผนภูมิแสดงความเชื่อมโยงยุทธศาสตร์การจัดสรรงบประมาณ ผลผลิต และงบประมาณ  ปี </a:t>
            </a:r>
            <a:r>
              <a:rPr b="1" lang="th-TH" sz="2400" spc="-1" strike="noStrike">
                <a:solidFill>
                  <a:srgbClr val="ff33cc"/>
                </a:solidFill>
                <a:latin typeface="Cordia New"/>
                <a:ea typeface="LilyUPC"/>
              </a:rPr>
              <a:t>255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2400" spc="-1" strike="noStrike">
                <a:solidFill>
                  <a:srgbClr val="ff33cc"/>
                </a:solidFill>
                <a:latin typeface="Cordia New"/>
                <a:cs typeface="LilyUPC"/>
              </a:rPr>
              <a:t>กรมสนับสนุนบริการสุขภา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3760" y="920880"/>
            <a:ext cx="1504800" cy="668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8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Cordia New"/>
                <a:cs typeface="AngsanaUPC"/>
              </a:rPr>
              <a:t>ยุทธศาสตร์การ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Cordia New"/>
                <a:cs typeface="AngsanaUPC"/>
              </a:rPr>
              <a:t>จัดสรรงบประมาณ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9200" y="1474920"/>
            <a:ext cx="1295280" cy="217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32400" tIns="16200" bIns="16200" anchor="t">
            <a:spAutoFit/>
          </a:bodyPr>
          <a:p>
            <a:pPr algn="ctr">
              <a:lnSpc>
                <a:spcPct val="76000"/>
              </a:lnSpc>
              <a:tabLst>
                <a:tab algn="l" pos="0"/>
                <a:tab algn="l" pos="325440"/>
                <a:tab algn="l" pos="650880"/>
                <a:tab algn="l" pos="976320"/>
                <a:tab algn="l" pos="1301760"/>
                <a:tab algn="l" pos="1627200"/>
                <a:tab algn="l" pos="1952640"/>
                <a:tab algn="l" pos="2278080"/>
                <a:tab algn="l" pos="2603520"/>
                <a:tab algn="l" pos="2928960"/>
                <a:tab algn="l" pos="3254400"/>
                <a:tab algn="l" pos="3579840"/>
                <a:tab algn="l" pos="3905280"/>
                <a:tab algn="l" pos="4230720"/>
                <a:tab algn="l" pos="4556160"/>
                <a:tab algn="l" pos="4881600"/>
                <a:tab algn="l" pos="5207040"/>
                <a:tab algn="l" pos="5532480"/>
                <a:tab algn="l" pos="5857920"/>
                <a:tab algn="l" pos="6183360"/>
                <a:tab algn="l" pos="65088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Cordia New"/>
                <a:cs typeface="Cordia New"/>
              </a:rPr>
              <a:t>แผนงาน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68480" y="939960"/>
            <a:ext cx="4083120" cy="380880"/>
          </a:xfrm>
          <a:prstGeom prst="roundRect">
            <a:avLst>
              <a:gd name="adj" fmla="val 107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533520" indent="-53352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Angsana New"/>
                <a:ea typeface="Angsana New"/>
              </a:rPr>
              <a:t>2. </a:t>
            </a:r>
            <a:r>
              <a:rPr b="1" lang="th-TH" sz="1600" spc="-1" strike="noStrike">
                <a:solidFill>
                  <a:srgbClr val="ffffff"/>
                </a:solidFill>
                <a:latin typeface="Angsana New"/>
                <a:cs typeface="Angsana New"/>
              </a:rPr>
              <a:t>ยุทธศาสตร์การพัฒนาสังคมและคุณภาพชีวิต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38720" y="939960"/>
            <a:ext cx="3657600" cy="380880"/>
          </a:xfrm>
          <a:prstGeom prst="roundRect">
            <a:avLst>
              <a:gd name="adj" fmla="val 1072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Angsana New"/>
                <a:ea typeface="Angsana New"/>
              </a:rPr>
              <a:t>1. </a:t>
            </a:r>
            <a:r>
              <a:rPr b="1" lang="th-TH" sz="1600" spc="-1" strike="noStrike">
                <a:solidFill>
                  <a:srgbClr val="ffffff"/>
                </a:solidFill>
                <a:latin typeface="Angsana New"/>
                <a:cs typeface="Angsana New"/>
              </a:rPr>
              <a:t>ยุทธศาสตร์การฟื้นฟูความเชื่อมั่นของประเท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32040" y="1397160"/>
            <a:ext cx="4559400" cy="380880"/>
          </a:xfrm>
          <a:prstGeom prst="roundRect">
            <a:avLst>
              <a:gd name="adj" fmla="val 10722"/>
            </a:avLst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5440"/>
                <a:tab algn="l" pos="650880"/>
                <a:tab algn="l" pos="976320"/>
                <a:tab algn="l" pos="1301760"/>
                <a:tab algn="l" pos="1627200"/>
                <a:tab algn="l" pos="1952640"/>
                <a:tab algn="l" pos="2278080"/>
                <a:tab algn="l" pos="2603520"/>
                <a:tab algn="l" pos="2928960"/>
                <a:tab algn="l" pos="3254400"/>
                <a:tab algn="l" pos="3579840"/>
                <a:tab algn="l" pos="3905280"/>
                <a:tab algn="l" pos="4230720"/>
                <a:tab algn="l" pos="4556160"/>
                <a:tab algn="l" pos="4881600"/>
                <a:tab algn="l" pos="5207040"/>
                <a:tab algn="l" pos="5532480"/>
                <a:tab algn="l" pos="5857920"/>
                <a:tab algn="l" pos="6183360"/>
                <a:tab algn="l" pos="6508800"/>
              </a:tabLst>
            </a:pPr>
            <a:r>
              <a:rPr b="1" lang="th-TH" sz="1400" spc="-1" strike="noStrike">
                <a:solidFill>
                  <a:srgbClr val="463416"/>
                </a:solidFill>
                <a:latin typeface="Angsana New"/>
                <a:ea typeface="Angsana New"/>
              </a:rPr>
              <a:t>2.3  </a:t>
            </a:r>
            <a:r>
              <a:rPr b="1" lang="th-TH" sz="1400" spc="-1" strike="noStrike">
                <a:solidFill>
                  <a:srgbClr val="463416"/>
                </a:solidFill>
                <a:latin typeface="Angsana New"/>
                <a:cs typeface="Angsana New"/>
              </a:rPr>
              <a:t>แผนงานพัฒนาสุขภาพของประชาชน </a:t>
            </a:r>
            <a:r>
              <a:rPr b="1" lang="th-TH" sz="1400" spc="-1" strike="noStrike">
                <a:solidFill>
                  <a:srgbClr val="463416"/>
                </a:solidFill>
                <a:latin typeface="Angsana New"/>
                <a:ea typeface="Angsana New"/>
              </a:rPr>
              <a:t>(748,725,200 </a:t>
            </a:r>
            <a:r>
              <a:rPr b="1" lang="th-TH" sz="1400" spc="-1" strike="noStrike">
                <a:solidFill>
                  <a:srgbClr val="463416"/>
                </a:solidFill>
                <a:latin typeface="Angsana New"/>
                <a:cs typeface="Angsana New"/>
              </a:rPr>
              <a:t>บาท</a:t>
            </a:r>
            <a:r>
              <a:rPr b="1" lang="th-TH" sz="1400" spc="-1" strike="noStrike">
                <a:solidFill>
                  <a:srgbClr val="463416"/>
                </a:solidFill>
                <a:latin typeface="Angsana New"/>
                <a:ea typeface="Angsana New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8560" y="1397160"/>
            <a:ext cx="3489480" cy="380880"/>
          </a:xfrm>
          <a:prstGeom prst="roundRect">
            <a:avLst>
              <a:gd name="adj" fmla="val 10722"/>
            </a:avLst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5440"/>
                <a:tab algn="l" pos="650880"/>
                <a:tab algn="l" pos="976320"/>
                <a:tab algn="l" pos="1301760"/>
                <a:tab algn="l" pos="1627200"/>
                <a:tab algn="l" pos="1952640"/>
                <a:tab algn="l" pos="2278080"/>
                <a:tab algn="l" pos="2603520"/>
                <a:tab algn="l" pos="2928960"/>
                <a:tab algn="l" pos="3254400"/>
                <a:tab algn="l" pos="3579840"/>
                <a:tab algn="l" pos="3905280"/>
                <a:tab algn="l" pos="4230720"/>
                <a:tab algn="l" pos="4556160"/>
                <a:tab algn="l" pos="4881600"/>
                <a:tab algn="l" pos="5207040"/>
                <a:tab algn="l" pos="5532480"/>
                <a:tab algn="l" pos="5857920"/>
                <a:tab algn="l" pos="6183360"/>
                <a:tab algn="l" pos="6508800"/>
              </a:tabLst>
            </a:pPr>
            <a:r>
              <a:rPr b="1" lang="th-TH" sz="1400" spc="-1" strike="noStrike">
                <a:solidFill>
                  <a:srgbClr val="463416"/>
                </a:solidFill>
                <a:latin typeface="Angsana New"/>
                <a:ea typeface="Angsana New"/>
              </a:rPr>
              <a:t>1.3 </a:t>
            </a:r>
            <a:r>
              <a:rPr b="1" lang="th-TH" sz="1400" spc="-1" strike="noStrike">
                <a:solidFill>
                  <a:srgbClr val="463416"/>
                </a:solidFill>
                <a:latin typeface="Angsana New"/>
                <a:cs typeface="Angsana New"/>
              </a:rPr>
              <a:t>แผนงานป้องกันแก้ไขปัญหายาเสพติดเร่งด่วน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25440"/>
                <a:tab algn="l" pos="650880"/>
                <a:tab algn="l" pos="976320"/>
                <a:tab algn="l" pos="1301760"/>
                <a:tab algn="l" pos="1627200"/>
                <a:tab algn="l" pos="1952640"/>
                <a:tab algn="l" pos="2278080"/>
                <a:tab algn="l" pos="2603520"/>
                <a:tab algn="l" pos="2928960"/>
                <a:tab algn="l" pos="3254400"/>
                <a:tab algn="l" pos="3579840"/>
                <a:tab algn="l" pos="3905280"/>
                <a:tab algn="l" pos="4230720"/>
                <a:tab algn="l" pos="4556160"/>
                <a:tab algn="l" pos="4881600"/>
                <a:tab algn="l" pos="5207040"/>
                <a:tab algn="l" pos="5532480"/>
                <a:tab algn="l" pos="5857920"/>
                <a:tab algn="l" pos="6183360"/>
                <a:tab algn="l" pos="6508800"/>
              </a:tabLst>
            </a:pPr>
            <a:r>
              <a:rPr b="1" lang="th-TH" sz="1400" spc="-1" strike="noStrike">
                <a:solidFill>
                  <a:srgbClr val="463416"/>
                </a:solidFill>
                <a:latin typeface="Angsana New"/>
                <a:cs typeface="Angsana New"/>
              </a:rPr>
              <a:t>และปราบปรามผู้มีอิทธิพล </a:t>
            </a:r>
            <a:r>
              <a:rPr b="1" lang="th-TH" sz="1400" spc="-1" strike="noStrike">
                <a:solidFill>
                  <a:srgbClr val="463416"/>
                </a:solidFill>
                <a:latin typeface="Angsana New"/>
                <a:ea typeface="Angsana New"/>
              </a:rPr>
              <a:t>(7,175,800 </a:t>
            </a:r>
            <a:r>
              <a:rPr b="1" lang="th-TH" sz="1400" spc="-1" strike="noStrike">
                <a:solidFill>
                  <a:srgbClr val="463416"/>
                </a:solidFill>
                <a:latin typeface="Angsana New"/>
                <a:cs typeface="Angsana New"/>
              </a:rPr>
              <a:t>บาท</a:t>
            </a:r>
            <a:r>
              <a:rPr b="1" lang="th-TH" sz="1400" spc="-1" strike="noStrike">
                <a:solidFill>
                  <a:srgbClr val="463416"/>
                </a:solidFill>
                <a:latin typeface="Angsana New"/>
                <a:ea typeface="Angsana New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3760" y="1854360"/>
            <a:ext cx="906480" cy="669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72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ffff00"/>
                </a:solidFill>
                <a:latin typeface="Angsana New"/>
                <a:cs typeface="Angsana New"/>
              </a:rPr>
              <a:t>เป้าหมายการให้บริการกระทรว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85920" y="1854360"/>
            <a:ext cx="297828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50000">
                <a:srgbClr val="fefefe"/>
              </a:gs>
              <a:gs pos="100000">
                <a:srgbClr val="ff99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ea typeface="Angsana New"/>
              </a:rPr>
              <a:t>3.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ชาชนสามารถเข้าถึงหลักประกันสุขภาพ ได้รับบริการ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ุขภาพ และบริโภคผลิตภัณฑ์สุขภาพที่มีคุณภาพมาตรฐา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Angsana New"/>
              </a:rPr>
              <a:t>อย่างทั่วถึงและเป็นธรรม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ea typeface="Angsana New"/>
              </a:rPr>
              <a:t>(534,668,400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Angsana New"/>
              </a:rPr>
              <a:t>บาท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64200" y="1854360"/>
            <a:ext cx="2809800" cy="609480"/>
          </a:xfrm>
          <a:prstGeom prst="roundRect">
            <a:avLst>
              <a:gd name="adj" fmla="val 14704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ea typeface="Angsana New"/>
              </a:rPr>
              <a:t>5.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ชาชนมีสุขภาพดี มีพฤติกรรมสุขภาพที่ถูกต้อ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วมทั้งมีส่วนร่วมในการดูแลสุขภาพที่เหมาะสม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ea typeface="Angsana New"/>
              </a:rPr>
              <a:t>(214,056,800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Angsana New"/>
              </a:rPr>
              <a:t>บาท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74000" y="1854360"/>
            <a:ext cx="2841480" cy="609480"/>
          </a:xfrm>
          <a:prstGeom prst="roundRect">
            <a:avLst>
              <a:gd name="adj" fmla="val 14704"/>
            </a:avLst>
          </a:prstGeom>
          <a:gradFill rotWithShape="0">
            <a:gsLst>
              <a:gs pos="0">
                <a:srgbClr val="cc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ea typeface="Angsana New"/>
              </a:rPr>
              <a:t>2.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ชาชน ผู้เสพและผู้ติดยาเสพติดได้รับการดูแลคุณภาพ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Angsana New"/>
              </a:rPr>
              <a:t>ชีวิตโดยการบำบัดรักษา ฟื้นฟู เฝ้าระวัง ควบคุมการใช้วัตถุเสพติด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  <a:cs typeface="Angsana New"/>
              </a:rPr>
              <a:t>ให้สามารถดำเนินชีวิตได้ตามปกติ </a:t>
            </a:r>
            <a:r>
              <a:rPr b="1" lang="th-TH" sz="1200" spc="-1" strike="noStrike">
                <a:solidFill>
                  <a:srgbClr val="463416"/>
                </a:solidFill>
                <a:latin typeface="Arial"/>
                <a:ea typeface="Angsana New"/>
              </a:rPr>
              <a:t>(7,175,800 </a:t>
            </a:r>
            <a:r>
              <a:rPr b="1" lang="th-TH" sz="1200" spc="-1" strike="noStrike">
                <a:solidFill>
                  <a:srgbClr val="463416"/>
                </a:solidFill>
                <a:latin typeface="Arial"/>
                <a:cs typeface="Angsana New"/>
              </a:rPr>
              <a:t>บาท</a:t>
            </a:r>
            <a:r>
              <a:rPr b="1" lang="th-TH" sz="1200" spc="-1" strike="noStrike">
                <a:solidFill>
                  <a:srgbClr val="463416"/>
                </a:solidFill>
                <a:latin typeface="Arial"/>
                <a:ea typeface="Angsana New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2692440"/>
            <a:ext cx="681120" cy="515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72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ffff00"/>
                </a:solidFill>
                <a:latin typeface="Angsana New"/>
                <a:cs typeface="Angsana New"/>
              </a:rPr>
              <a:t>กลยุทธ์กระทรว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46080" y="2540160"/>
            <a:ext cx="11923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50000">
                <a:srgbClr val="fefefe"/>
              </a:gs>
              <a:gs pos="100000">
                <a:srgbClr val="ff99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ea typeface="DilleniaUPC"/>
              </a:rPr>
              <a:t>3. </a:t>
            </a: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DilleniaUPC"/>
              </a:rPr>
              <a:t>พัฒนาระบบหลัก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DilleniaUPC"/>
              </a:rPr>
              <a:t>ประกันสุขภาพให้เกิด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DilleniaUPC"/>
              </a:rPr>
              <a:t>ประสิทธิภาพและมี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DilleniaUPC"/>
              </a:rPr>
              <a:t>คุณภาพมาตรฐาน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38400" y="2540160"/>
            <a:ext cx="26366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50000">
                <a:srgbClr val="fefefe"/>
              </a:gs>
              <a:gs pos="100000">
                <a:srgbClr val="ff99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ea typeface="DilleniaUPC"/>
              </a:rPr>
              <a:t>4. </a:t>
            </a: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DilleniaUPC"/>
              </a:rPr>
              <a:t>ปฏิรูประบบบริหารจัดการทางการแพทย์ สาธารณสุขแล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DilleniaUPC"/>
              </a:rPr>
              <a:t>ระบบสุขภาพให้มีประสิทธิภาพและครบวงจร ทั้งการวิจัย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DilleniaUPC"/>
              </a:rPr>
              <a:t>พัฒนา องค์ความรู้การรักษาพยาบาล การส่งเสริมสุขภาพ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DilleniaUPC"/>
              </a:rPr>
              <a:t>การควบคุมป้องกันโรคการฟื้นฟูสภาพ คุ้มครองผู้บริโภค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DilleniaUPC"/>
              </a:rPr>
              <a:t>รวมทั้งสนับสนุนให้ประเทศไทยเป็นศูนย์กลางสุขภาพ </a:t>
            </a:r>
            <a:r>
              <a:rPr b="1" lang="th-TH" sz="1100" spc="-1" strike="noStrike">
                <a:solidFill>
                  <a:srgbClr val="000000"/>
                </a:solidFill>
                <a:latin typeface="Angsana New"/>
                <a:ea typeface="DilleniaUPC"/>
              </a:rPr>
              <a:t>(</a:t>
            </a:r>
            <a:r>
              <a:rPr b="1" lang="en-US" sz="1100" spc="-1" strike="noStrike">
                <a:solidFill>
                  <a:srgbClr val="000000"/>
                </a:solidFill>
                <a:latin typeface="Angsana New"/>
                <a:ea typeface="DilleniaUPC"/>
              </a:rPr>
              <a:t>Medical Hub</a:t>
            </a:r>
            <a:r>
              <a:rPr b="1" lang="th-TH" sz="1100" spc="-1" strike="noStrike">
                <a:solidFill>
                  <a:srgbClr val="000000"/>
                </a:solidFill>
                <a:latin typeface="Angsana New"/>
                <a:ea typeface="DilleniaUPC"/>
              </a:rPr>
              <a:t>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75040" y="2540160"/>
            <a:ext cx="2211480" cy="914400"/>
          </a:xfrm>
          <a:prstGeom prst="roundRect">
            <a:avLst>
              <a:gd name="adj" fmla="val 14704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ea typeface="DilleniaUPC"/>
              </a:rPr>
              <a:t>6. </a:t>
            </a: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DilleniaUPC"/>
              </a:rPr>
              <a:t>เสริมสร้างปัจจัยพื้นฐานของการมีพฤติกรรมสุขภาพที่ถูกต้อง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DilleniaUPC"/>
              </a:rPr>
              <a:t>อย่างพอเพียง ที่เอื้อต่อการมีสุขภาพดีของประชาชน รวมทั้ง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DilleniaUPC"/>
              </a:rPr>
              <a:t>ศึกษาวิจัยเพื่อพัฒนาข้อเสนอเชิงนโยบายในการนำ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DilleniaUPC"/>
              </a:rPr>
              <a:t>มาตรการภาษีมาใช้กระตุ้นการปรับเปลี่ยนพฤติกรรมบุคคล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86520" y="2540160"/>
            <a:ext cx="1617840" cy="914400"/>
          </a:xfrm>
          <a:prstGeom prst="roundRect">
            <a:avLst>
              <a:gd name="adj" fmla="val 14704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ea typeface="DilleniaUPC"/>
              </a:rPr>
              <a:t>7. </a:t>
            </a: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่งเสริมและพัฒนาศักยภาพของ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DilleniaUPC"/>
              </a:rPr>
              <a:t>อาสาสมัครและภาคีเครือข่ายใน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DilleniaUPC"/>
              </a:rPr>
              <a:t>การดำเนินกิจกรรมด้านสุขภาพ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DilleniaUPC"/>
              </a:rPr>
              <a:t>โดยการมีส่วนร่วมจากทุกภาคส่วน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604360" y="2540160"/>
            <a:ext cx="1311120" cy="914400"/>
          </a:xfrm>
          <a:prstGeom prst="roundRect">
            <a:avLst>
              <a:gd name="adj" fmla="val 14704"/>
            </a:avLst>
          </a:prstGeom>
          <a:gradFill rotWithShape="0">
            <a:gsLst>
              <a:gs pos="0">
                <a:srgbClr val="cc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ea typeface="DilleniaUPC"/>
              </a:rPr>
              <a:t>2. </a:t>
            </a: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DilleniaUPC"/>
              </a:rPr>
              <a:t>เสริมสร้างระบบการเฝ้าระวัง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ea typeface="DilleniaUPC"/>
              </a:rPr>
              <a:t> </a:t>
            </a: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DilleniaUPC"/>
              </a:rPr>
              <a:t>ควบคุม ป้องกัน บำบัดรักษาแล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DilleniaUPC"/>
              </a:rPr>
              <a:t>ฟื้นฟูสภาพของประชาชนผู้เสพ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DilleniaUPC"/>
              </a:rPr>
              <a:t>และผู้ติดยาเสพติดให้มีประสิทธิภาพ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ngsana New"/>
                <a:cs typeface="DilleniaUPC"/>
              </a:rPr>
              <a:t>และยั่งยืน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4960" y="3454560"/>
            <a:ext cx="765360" cy="65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82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200" spc="-1" strike="noStrike">
                <a:solidFill>
                  <a:srgbClr val="ffff00"/>
                </a:solidFill>
                <a:latin typeface="Angsana New"/>
                <a:cs typeface="AngsanaUPC"/>
              </a:rPr>
              <a:t>เป้าหมายการให้บริการหน่วยงา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00240" y="3530520"/>
            <a:ext cx="2100240" cy="4572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ถานบริการสุขภาพและสถานประกอบการ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ธุรกิจบริการสุขภาพมีคุณภาพตามมาตรฐาน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ea typeface="Angsana New"/>
              </a:rPr>
              <a:t>(528,902,500 </a:t>
            </a: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บาท</a:t>
            </a:r>
            <a:r>
              <a:rPr b="1" lang="th-TH" sz="10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48680" y="3530520"/>
            <a:ext cx="1635120" cy="4572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cc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ะบบรายงาน ระบบติดตามและเฝ้าระวัง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ัญหายาเสพติดมีคุณภาพ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rial"/>
                <a:ea typeface="Angsana New"/>
              </a:rPr>
              <a:t>(7,175,800 </a:t>
            </a:r>
            <a:r>
              <a:rPr b="1" lang="th-TH" sz="1000" spc="-1" strike="noStrike">
                <a:solidFill>
                  <a:srgbClr val="463416"/>
                </a:solidFill>
                <a:latin typeface="Arial"/>
                <a:cs typeface="Angsana New"/>
              </a:rPr>
              <a:t>บาท</a:t>
            </a:r>
            <a:r>
              <a:rPr b="1" lang="th-TH" sz="1000" spc="-1" strike="noStrike">
                <a:solidFill>
                  <a:srgbClr val="463416"/>
                </a:solidFill>
                <a:latin typeface="Arial"/>
                <a:ea typeface="Angsana New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28920" y="3530520"/>
            <a:ext cx="1432080" cy="4572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ผู้บริโภคมีความรู้ความเข้าใจ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ในการใช้บริการสุขภาพ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ea typeface="Angsana New"/>
              </a:rPr>
              <a:t>(5,765,900 </a:t>
            </a: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บาท</a:t>
            </a:r>
            <a:r>
              <a:rPr b="1" lang="th-TH" sz="10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09960" y="3530520"/>
            <a:ext cx="1581480" cy="4572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ชาชนมีความรู้ที่จำเป็นแล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พฤติกรรมที่ถูกต้องในการดูแลสุขภาพ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ea typeface="Angsana New"/>
              </a:rPr>
              <a:t>(55,301,8000 </a:t>
            </a: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บาท</a:t>
            </a:r>
            <a:r>
              <a:rPr b="1" lang="th-TH" sz="10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78560" y="3530520"/>
            <a:ext cx="1701720" cy="4572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อาสาสมัครสาธารณสุขประจำหมู่บ้าน ภาคี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ครือข่ายมีส่วนร่วมในการจัดกิจกรรม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ด้านสุขภาพ </a:t>
            </a:r>
            <a:r>
              <a:rPr b="1" lang="th-TH" sz="1000" spc="-1" strike="noStrike">
                <a:solidFill>
                  <a:srgbClr val="000000"/>
                </a:solidFill>
                <a:latin typeface="Angsana New"/>
                <a:ea typeface="Angsana New"/>
              </a:rPr>
              <a:t>(158,746,000 </a:t>
            </a: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บาท</a:t>
            </a:r>
            <a:r>
              <a:rPr b="1" lang="th-TH" sz="10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9600" y="4172040"/>
            <a:ext cx="636480" cy="361800"/>
          </a:xfrm>
          <a:prstGeom prst="rect">
            <a:avLst/>
          </a:prstGeom>
          <a:noFill/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8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200" spc="-1" strike="noStrike">
                <a:solidFill>
                  <a:srgbClr val="ffff00"/>
                </a:solidFill>
                <a:latin typeface="Angsana New"/>
                <a:cs typeface="Cordia New"/>
              </a:rPr>
              <a:t>กลยุทธ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200" spc="-1" strike="noStrike">
                <a:solidFill>
                  <a:srgbClr val="ffff00"/>
                </a:solidFill>
                <a:latin typeface="Angsana New"/>
                <a:cs typeface="Angsana New"/>
              </a:rPr>
              <a:t>กรม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30320" y="4064040"/>
            <a:ext cx="1703520" cy="5634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่งเสริม สนับสนุน พัฒนา และควบคุม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ำกับระบบบริการสุขภาพ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ให้ได้คุณภาพมาตรฐาน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76680" y="4064040"/>
            <a:ext cx="1147680" cy="5634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พัฒนาองค์ความรู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ด้านระบบบริการสุขภาพ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626080" y="4064040"/>
            <a:ext cx="1387440" cy="5634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สริมสร้างจิตสำนึกความรู้และทักษ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ที่จำเป็นแก่ประชาชนให้มี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พฤติกรรมสุขภาพที่เหมาะสม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67520" y="4064040"/>
            <a:ext cx="1452600" cy="5634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่งเสริม สนับสนุนองค์กร อสม</a:t>
            </a:r>
            <a:r>
              <a:rPr b="1" lang="th-TH" sz="1000" spc="-1" strike="noStrike">
                <a:solidFill>
                  <a:srgbClr val="000000"/>
                </a:solidFill>
                <a:latin typeface="Angsana New"/>
                <a:ea typeface="Angsana New"/>
              </a:rPr>
              <a:t>. </a:t>
            </a: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อปท</a:t>
            </a:r>
            <a:r>
              <a:rPr b="1" lang="th-TH" sz="1000" spc="-1" strike="noStrike">
                <a:solidFill>
                  <a:srgbClr val="000000"/>
                </a:solidFill>
                <a:latin typeface="Angsana New"/>
                <a:ea typeface="Angsana New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ละภาคีเครือข่ายในการดำเนิน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ิจกรรมด้านสุขภาพ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604360" y="4064040"/>
            <a:ext cx="1311120" cy="5634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cc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ส่งเสริมพัฒนาระบบรายงาน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ระบบติดตามและเฝ้าระวังปัญหา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ngsana New"/>
                <a:cs typeface="Angsana New"/>
              </a:rPr>
              <a:t>ยาเสพติด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11480" y="4064040"/>
            <a:ext cx="1530360" cy="5634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่งเสริมความรู้ ความเข้าใจในการใช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บริการสุขภาพระหว่างผู้ให้และผู้รั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Angsana New"/>
                <a:cs typeface="Angsana New"/>
              </a:rPr>
              <a:t>บริการสุขภาพ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60400" y="4673520"/>
            <a:ext cx="1193760" cy="5400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DilleniaUPC"/>
              </a:rPr>
              <a:t>ผลงานการส่งเสริม พัฒนา สนับสนุน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DilleniaUPC"/>
              </a:rPr>
              <a:t>ประสาน ควบคุม กำกับ คุณภาพ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DilleniaUPC"/>
              </a:rPr>
              <a:t>มาตรฐานบริการสุขภาพ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ea typeface="DilleniaUPC"/>
              </a:rPr>
              <a:t>(397,023,600 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DilleniaUPC"/>
              </a:rPr>
              <a:t>บาท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  <a:ea typeface="DilleniaUPC"/>
              </a:rPr>
              <a:t>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68760" y="4673520"/>
            <a:ext cx="1225440" cy="5400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DilleniaUPC"/>
              </a:rPr>
              <a:t>ผลงานการวิจัย พัฒนาองค์ความรู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DilleniaUPC"/>
              </a:rPr>
              <a:t>และเทคโนโลยีด้านระบบบริการ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ุขภาพ  สุขศึกษาและสุขภาพ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DilleniaUPC"/>
              </a:rPr>
              <a:t>ภาคประชาชน 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  <a:ea typeface="DilleniaUPC"/>
              </a:rPr>
              <a:t>(131,878,900 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DilleniaUPC"/>
              </a:rPr>
              <a:t>บาท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  <a:ea typeface="DilleniaUPC"/>
              </a:rPr>
              <a:t>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6880" y="4826160"/>
            <a:ext cx="447840" cy="592560"/>
          </a:xfrm>
          <a:prstGeom prst="rect">
            <a:avLst/>
          </a:prstGeom>
          <a:noFill/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8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ffff00"/>
                </a:solidFill>
                <a:latin typeface="Angsana New"/>
                <a:cs typeface="DilleniaUPC"/>
              </a:rPr>
              <a:t>ผล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ffff00"/>
                </a:solidFill>
                <a:latin typeface="Angsana New"/>
                <a:cs typeface="DilleniaUPC"/>
              </a:rPr>
              <a:t>ผลิต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969160" y="4673520"/>
            <a:ext cx="1274760" cy="60984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DilleniaUPC"/>
              </a:rPr>
              <a:t>ประชาชนและ อสม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  <a:ea typeface="DilleniaUPC"/>
              </a:rPr>
              <a:t>.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DilleniaUPC"/>
              </a:rPr>
              <a:t>กลุ่มเป้าหมายได้รับ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DilleniaUPC"/>
              </a:rPr>
              <a:t>การถ่ายทอดความรู้ด้านสุขภาพเพื่อ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DilleniaUPC"/>
              </a:rPr>
              <a:t>นำไปสู่การปรับเปลี่ยนพฤติกรรมสุขภาพ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ea typeface="DilleniaUPC"/>
              </a:rPr>
              <a:t>(55,310,800 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DilleniaUPC"/>
              </a:rPr>
              <a:t>บาท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  <a:ea typeface="DilleniaUPC"/>
              </a:rPr>
              <a:t>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520120" y="4673520"/>
            <a:ext cx="1447920" cy="53352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cc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DilleniaUPC"/>
              </a:rPr>
              <a:t>ระบบรายงาน ระบบติดตามและเฝ้าระวัง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DilleniaUPC"/>
              </a:rPr>
              <a:t>ปัญหายาเสพติดได้รับการปรับปรุงและ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463416"/>
                </a:solidFill>
                <a:latin typeface="Angsana New"/>
                <a:cs typeface="DilleniaUPC"/>
              </a:rPr>
              <a:t>พัฒนาเพื่อให้ได้ข้อมูลที่มีคุณภาพมาตรฐาน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rial"/>
                <a:ea typeface="Angsana New"/>
              </a:rPr>
              <a:t>(7,175,800 </a:t>
            </a:r>
            <a:r>
              <a:rPr b="1" lang="th-TH" sz="1000" spc="-1" strike="noStrike">
                <a:solidFill>
                  <a:srgbClr val="463416"/>
                </a:solidFill>
                <a:latin typeface="Arial"/>
                <a:cs typeface="Angsana New"/>
              </a:rPr>
              <a:t>บาท</a:t>
            </a:r>
            <a:r>
              <a:rPr b="1" lang="th-TH" sz="1000" spc="-1" strike="noStrike">
                <a:solidFill>
                  <a:srgbClr val="463416"/>
                </a:solidFill>
                <a:latin typeface="Arial"/>
                <a:ea typeface="Angsana New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944960" y="4673520"/>
            <a:ext cx="963720" cy="5400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DilleniaUPC"/>
              </a:rPr>
              <a:t>ผลงานการส่งเสริมคุ้มครอง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DilleniaUPC"/>
              </a:rPr>
              <a:t>ผู้บริโภคด้านบริการ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ุขภาพ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  <a:ea typeface="DilleniaUPC"/>
              </a:rPr>
              <a:t>(5,765,900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DilleniaUPC"/>
              </a:rPr>
              <a:t>บาท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  <a:ea typeface="DilleniaUPC"/>
              </a:rPr>
              <a:t>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38400" y="4680000"/>
            <a:ext cx="1446120" cy="53352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28440">
            <a:solidFill>
              <a:srgbClr val="ff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โครงการลงทุนพัฒนาระบบบริการสาธารณสุขตาม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โครงการลงทุนขนาดใหญ่ของภาครัฐ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ด้านสาธารณสุขพ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.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ศ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.2551-2555(</a:t>
            </a:r>
            <a:r>
              <a:rPr b="1" lang="en-US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Mega Project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( -  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บาท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26360" y="4673520"/>
            <a:ext cx="1108080" cy="54000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DilleniaUPC"/>
              </a:rPr>
              <a:t>องค์กรอสม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  <a:ea typeface="DilleniaUPC"/>
              </a:rPr>
              <a:t>. 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DilleniaUPC"/>
              </a:rPr>
              <a:t>ภาคีเครือข่ายได้รับ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DilleniaUPC"/>
              </a:rPr>
              <a:t>การส่งเสริมและสนับสนุน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DilleniaUPC"/>
              </a:rPr>
              <a:t>ให้มีกิจกรรมด้านสุขภาพ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Angsana New"/>
                <a:ea typeface="DilleniaUPC"/>
              </a:rPr>
              <a:t>(158,746,000 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  <a:cs typeface="DilleniaUPC"/>
              </a:rPr>
              <a:t>บาท</a:t>
            </a:r>
            <a:r>
              <a:rPr b="1" lang="th-TH" sz="900" spc="-1" strike="noStrike">
                <a:solidFill>
                  <a:srgbClr val="000000"/>
                </a:solidFill>
                <a:latin typeface="Angsana New"/>
                <a:ea typeface="DilleniaUPC"/>
              </a:rPr>
              <a:t>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56440" y="5435640"/>
            <a:ext cx="512640" cy="1828800"/>
          </a:xfrm>
          <a:custGeom>
            <a:avLst/>
            <a:gdLst>
              <a:gd name="textAreaLeft" fmla="*/ 11160 w 512640"/>
              <a:gd name="textAreaRight" fmla="*/ 501480 w 512640"/>
              <a:gd name="textAreaTop" fmla="*/ 11160 h 1828800"/>
              <a:gd name="textAreaBottom" fmla="*/ 1817640 h 1828800"/>
            </a:gdLst>
            <a:ahLst/>
            <a:rect l="textAreaLeft" t="textAreaTop" r="textAreaRight" b="textAreaBottom"/>
            <a:pathLst>
              <a:path w="21600" h="77017">
                <a:moveTo>
                  <a:pt x="1637" y="0"/>
                </a:moveTo>
                <a:arcTo wR="1637" hR="1637" stAng="16200000" swAng="-5400000"/>
                <a:lnTo>
                  <a:pt x="0" y="75380"/>
                </a:lnTo>
                <a:arcTo wR="1637" hR="1637" stAng="10800000" swAng="-5400000"/>
                <a:lnTo>
                  <a:pt x="19963" y="77017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่งเสริม แล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นับสนุ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อสม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.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ภาคี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เครือข่าย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ในการจัด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กิจกรรม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ุข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(93,448,000 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บาท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78560" y="5435640"/>
            <a:ext cx="595440" cy="1828800"/>
          </a:xfrm>
          <a:custGeom>
            <a:avLst/>
            <a:gdLst>
              <a:gd name="textAreaLeft" fmla="*/ 12960 w 595440"/>
              <a:gd name="textAreaRight" fmla="*/ 582480 w 595440"/>
              <a:gd name="textAreaTop" fmla="*/ 12960 h 1828800"/>
              <a:gd name="textAreaBottom" fmla="*/ 1815840 h 1828800"/>
            </a:gdLst>
            <a:ahLst/>
            <a:rect l="textAreaLeft" t="textAreaTop" r="textAreaRight" b="textAreaBottom"/>
            <a:pathLst>
              <a:path w="21600" h="66314">
                <a:moveTo>
                  <a:pt x="1637" y="0"/>
                </a:moveTo>
                <a:arcTo wR="1637" hR="1637" stAng="16200000" swAng="-5400000"/>
                <a:lnTo>
                  <a:pt x="0" y="64677"/>
                </a:lnTo>
                <a:arcTo wR="1637" hR="1637" stAng="10800000" swAng="-5400000"/>
                <a:lnTo>
                  <a:pt x="19963" y="66314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ถ่ายทอด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ความรู้ด้า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ุข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ู่ประชาช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กลุ่มเป้าหมาย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(55,310,800 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บาท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945640" y="5283360"/>
            <a:ext cx="938160" cy="55404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cc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463416"/>
                </a:solidFill>
                <a:latin typeface="Angsana New"/>
                <a:cs typeface="DilleniaUPC"/>
              </a:rPr>
              <a:t>พัฒนาระบบรายงา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463416"/>
                </a:solidFill>
                <a:latin typeface="Angsana New"/>
                <a:ea typeface="DilleniaUPC"/>
              </a:rPr>
              <a:t> </a:t>
            </a:r>
            <a:r>
              <a:rPr b="1" lang="th-TH" sz="800" spc="-1" strike="noStrike">
                <a:solidFill>
                  <a:srgbClr val="463416"/>
                </a:solidFill>
                <a:latin typeface="Angsana New"/>
                <a:cs typeface="DilleniaUPC"/>
              </a:rPr>
              <a:t>ระบบติดตาม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463416"/>
                </a:solidFill>
                <a:latin typeface="Angsana New"/>
                <a:cs typeface="DilleniaUPC"/>
              </a:rPr>
              <a:t>และเฝ้าระวังปัญหายาเสพติด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000" spc="-1" strike="noStrike">
                <a:solidFill>
                  <a:srgbClr val="463416"/>
                </a:solidFill>
                <a:latin typeface="Arial"/>
                <a:ea typeface="Angsana New"/>
              </a:rPr>
              <a:t>(7,175,800 </a:t>
            </a:r>
            <a:r>
              <a:rPr b="1" lang="th-TH" sz="1000" spc="-1" strike="noStrike">
                <a:solidFill>
                  <a:srgbClr val="463416"/>
                </a:solidFill>
                <a:latin typeface="Arial"/>
                <a:cs typeface="Angsana New"/>
              </a:rPr>
              <a:t>บาท</a:t>
            </a:r>
            <a:r>
              <a:rPr b="1" lang="th-TH" sz="1000" spc="-1" strike="noStrike">
                <a:solidFill>
                  <a:srgbClr val="463416"/>
                </a:solidFill>
                <a:latin typeface="Arial"/>
                <a:ea typeface="Angsana New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64960" y="5897520"/>
            <a:ext cx="425520" cy="950400"/>
          </a:xfrm>
          <a:prstGeom prst="rect">
            <a:avLst/>
          </a:prstGeom>
          <a:noFill/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8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ffff00"/>
                </a:solidFill>
                <a:latin typeface="Angsana New"/>
                <a:cs typeface="DilleniaUPC"/>
              </a:rPr>
              <a:t>กิจ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ffff00"/>
                </a:solidFill>
                <a:latin typeface="Angsana New"/>
                <a:cs typeface="DilleniaUPC"/>
              </a:rPr>
              <a:t>กรรม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1400" spc="-1" strike="noStrike">
                <a:solidFill>
                  <a:srgbClr val="ffff00"/>
                </a:solidFill>
                <a:latin typeface="Angsana New"/>
                <a:cs typeface="DilleniaUPC"/>
              </a:rPr>
              <a:t>หลั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46360" y="5435640"/>
            <a:ext cx="596880" cy="1828800"/>
          </a:xfrm>
          <a:custGeom>
            <a:avLst/>
            <a:gdLst>
              <a:gd name="textAreaLeft" fmla="*/ 12960 w 596880"/>
              <a:gd name="textAreaRight" fmla="*/ 583920 w 596880"/>
              <a:gd name="textAreaTop" fmla="*/ 12960 h 1828800"/>
              <a:gd name="textAreaBottom" fmla="*/ 1815840 h 1828800"/>
            </a:gdLst>
            <a:ahLst/>
            <a:rect l="textAreaLeft" t="textAreaTop" r="textAreaRight" b="textAreaBottom"/>
            <a:pathLst>
              <a:path w="21600" h="66154">
                <a:moveTo>
                  <a:pt x="1637" y="0"/>
                </a:moveTo>
                <a:arcTo wR="1637" hR="1637" stAng="16200000" swAng="-5400000"/>
                <a:lnTo>
                  <a:pt x="0" y="64517"/>
                </a:lnTo>
                <a:arcTo wR="1637" hR="1637" stAng="10800000" swAng="-5400000"/>
                <a:lnTo>
                  <a:pt x="19963" y="66154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่งเสริม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นับสนุ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และพัฒน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คุณ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ตามมาตรฐา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ด้านวิศวกรรม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การแพทย์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ในสถา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บริกา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ุขภาพภาครัฐ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(155,261,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00 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บาท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28920" y="5435640"/>
            <a:ext cx="595440" cy="1828800"/>
          </a:xfrm>
          <a:custGeom>
            <a:avLst/>
            <a:gdLst>
              <a:gd name="textAreaLeft" fmla="*/ 12960 w 595440"/>
              <a:gd name="textAreaRight" fmla="*/ 582480 w 595440"/>
              <a:gd name="textAreaTop" fmla="*/ 12960 h 1828800"/>
              <a:gd name="textAreaBottom" fmla="*/ 1815840 h 1828800"/>
            </a:gdLst>
            <a:ahLst/>
            <a:rect l="textAreaLeft" t="textAreaTop" r="textAreaRight" b="textAreaBottom"/>
            <a:pathLst>
              <a:path w="21600" h="66314">
                <a:moveTo>
                  <a:pt x="1637" y="0"/>
                </a:moveTo>
                <a:arcTo wR="1637" hR="1637" stAng="16200000" swAng="-5400000"/>
                <a:lnTo>
                  <a:pt x="0" y="64677"/>
                </a:lnTo>
                <a:arcTo wR="1637" hR="1637" stAng="10800000" swAng="-5400000"/>
                <a:lnTo>
                  <a:pt x="19963" y="66314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่งเสริม พัฒน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ควบคุม กำกับ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ถานบริกา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ุขภาพภาคเอกช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และผู้ประกอบ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โรคศิลปะให้มี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คุณ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มาตรฐานตาม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ที่กฎหมายกำหนด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(26,830,300 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บาท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11480" y="5435640"/>
            <a:ext cx="594000" cy="1828800"/>
          </a:xfrm>
          <a:custGeom>
            <a:avLst/>
            <a:gdLst>
              <a:gd name="textAreaLeft" fmla="*/ 12960 w 594000"/>
              <a:gd name="textAreaRight" fmla="*/ 581040 w 594000"/>
              <a:gd name="textAreaTop" fmla="*/ 12960 h 1828800"/>
              <a:gd name="textAreaBottom" fmla="*/ 1815840 h 1828800"/>
            </a:gdLst>
            <a:ahLst/>
            <a:rect l="textAreaLeft" t="textAreaTop" r="textAreaRight" b="textAreaBottom"/>
            <a:pathLst>
              <a:path w="21600" h="66475">
                <a:moveTo>
                  <a:pt x="1637" y="0"/>
                </a:moveTo>
                <a:arcTo wR="1637" hR="1637" stAng="16200000" swAng="-5400000"/>
                <a:lnTo>
                  <a:pt x="0" y="64838"/>
                </a:lnTo>
                <a:arcTo wR="1637" hR="1637" stAng="10800000" swAng="-5400000"/>
                <a:lnTo>
                  <a:pt x="19963" y="66475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่งเสริม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นับสนุ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พัฒนา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และกำกับ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ธุรกิจบริกา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ุขภาพให้มี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คุณ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มาตรฐา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(18,157,300 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บาท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881680" y="5435640"/>
            <a:ext cx="495360" cy="1828800"/>
          </a:xfrm>
          <a:custGeom>
            <a:avLst/>
            <a:gdLst>
              <a:gd name="textAreaLeft" fmla="*/ 10800 w 495360"/>
              <a:gd name="textAreaRight" fmla="*/ 484560 w 495360"/>
              <a:gd name="textAreaTop" fmla="*/ 10800 h 1828800"/>
              <a:gd name="textAreaBottom" fmla="*/ 1818000 h 1828800"/>
            </a:gdLst>
            <a:ahLst/>
            <a:rect l="textAreaLeft" t="textAreaTop" r="textAreaRight" b="textAreaBottom"/>
            <a:pathLst>
              <a:path w="21600" h="79702">
                <a:moveTo>
                  <a:pt x="1637" y="0"/>
                </a:moveTo>
                <a:arcTo wR="1637" hR="1637" stAng="16200000" swAng="-5400000"/>
                <a:lnTo>
                  <a:pt x="0" y="78065"/>
                </a:lnTo>
                <a:arcTo wR="1637" hR="1637" stAng="10800000" swAng="-5400000"/>
                <a:lnTo>
                  <a:pt x="19963" y="79702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่งเสริม กา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คุ้มครอง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ด้าน บริกา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ุข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ระหว่าง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ผู้ให้แล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ผู้รับ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บริกา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(5,765,900 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บาท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00560" y="5435640"/>
            <a:ext cx="595440" cy="1828800"/>
          </a:xfrm>
          <a:custGeom>
            <a:avLst/>
            <a:gdLst>
              <a:gd name="textAreaLeft" fmla="*/ 12960 w 595440"/>
              <a:gd name="textAreaRight" fmla="*/ 582480 w 595440"/>
              <a:gd name="textAreaTop" fmla="*/ 12960 h 1828800"/>
              <a:gd name="textAreaBottom" fmla="*/ 1815840 h 1828800"/>
            </a:gdLst>
            <a:ahLst/>
            <a:rect l="textAreaLeft" t="textAreaTop" r="textAreaRight" b="textAreaBottom"/>
            <a:pathLst>
              <a:path w="21600" h="66314">
                <a:moveTo>
                  <a:pt x="1637" y="0"/>
                </a:moveTo>
                <a:arcTo wR="1637" hR="1637" stAng="16200000" swAng="-5400000"/>
                <a:lnTo>
                  <a:pt x="0" y="64677"/>
                </a:lnTo>
                <a:arcTo wR="1637" hR="1637" stAng="10800000" swAng="-5400000"/>
                <a:lnTo>
                  <a:pt x="19963" y="66314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ศึกษา วิเคราะห์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วิจัย พัฒน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รูปแบบ เพื่อพัฒน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องค์ความรู้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และเทคโนโลยีด้า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ระบบบริกา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ุข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 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ุขศึกษา แล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ุขภาพภาค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ประชาช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(131,878,900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บาท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4720" y="5435640"/>
            <a:ext cx="550800" cy="1828800"/>
          </a:xfrm>
          <a:custGeom>
            <a:avLst/>
            <a:gdLst>
              <a:gd name="textAreaLeft" fmla="*/ 11880 w 550800"/>
              <a:gd name="textAreaRight" fmla="*/ 538920 w 550800"/>
              <a:gd name="textAreaTop" fmla="*/ 11880 h 1828800"/>
              <a:gd name="textAreaBottom" fmla="*/ 1816920 h 1828800"/>
            </a:gdLst>
            <a:ahLst/>
            <a:rect l="textAreaLeft" t="textAreaTop" r="textAreaRight" b="textAreaBottom"/>
            <a:pathLst>
              <a:path w="21600" h="71685">
                <a:moveTo>
                  <a:pt x="1637" y="0"/>
                </a:moveTo>
                <a:arcTo wR="1637" hR="1637" stAng="16200000" swAng="-5400000"/>
                <a:lnTo>
                  <a:pt x="0" y="70048"/>
                </a:lnTo>
                <a:arcTo wR="1637" hR="1637" stAng="10800000" swAng="-5400000"/>
                <a:lnTo>
                  <a:pt x="19963" y="71685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่งเสริม พัฒนา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ควบคุมกำกับ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คุณภาพมาตร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-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ฐานบริกา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ุขภาพใ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ถา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บริกา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ุข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ภาครัฐ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(83,947,200 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บาท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5435640"/>
            <a:ext cx="579600" cy="1828800"/>
          </a:xfrm>
          <a:custGeom>
            <a:avLst/>
            <a:gdLst>
              <a:gd name="textAreaLeft" fmla="*/ 12600 w 579600"/>
              <a:gd name="textAreaRight" fmla="*/ 567000 w 579600"/>
              <a:gd name="textAreaTop" fmla="*/ 12600 h 1828800"/>
              <a:gd name="textAreaBottom" fmla="*/ 1816200 h 1828800"/>
            </a:gdLst>
            <a:ahLst/>
            <a:rect l="textAreaLeft" t="textAreaTop" r="textAreaRight" b="textAreaBottom"/>
            <a:pathLst>
              <a:path w="21600" h="68125">
                <a:moveTo>
                  <a:pt x="1637" y="0"/>
                </a:moveTo>
                <a:arcTo wR="1637" hR="1637" stAng="16200000" swAng="-5400000"/>
                <a:lnTo>
                  <a:pt x="0" y="66488"/>
                </a:lnTo>
                <a:arcTo wR="1637" hR="1637" stAng="10800000" swAng="-5400000"/>
                <a:lnTo>
                  <a:pt x="19963" y="68125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่งเสริม พัฒนา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ควบคุมกำกับ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ถานบริกา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ุข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ภาครัฐให้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ได้คุณ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ตามมาตรฐา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งานสุขศึกษ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(11,291,700 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บาท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84320" y="5435640"/>
            <a:ext cx="579600" cy="1828800"/>
          </a:xfrm>
          <a:custGeom>
            <a:avLst/>
            <a:gdLst>
              <a:gd name="textAreaLeft" fmla="*/ 12600 w 579600"/>
              <a:gd name="textAreaRight" fmla="*/ 567000 w 579600"/>
              <a:gd name="textAreaTop" fmla="*/ 12600 h 1828800"/>
              <a:gd name="textAreaBottom" fmla="*/ 1816200 h 1828800"/>
            </a:gdLst>
            <a:ahLst/>
            <a:rect l="textAreaLeft" t="textAreaTop" r="textAreaRight" b="textAreaBottom"/>
            <a:pathLst>
              <a:path w="21600" h="68125">
                <a:moveTo>
                  <a:pt x="1637" y="0"/>
                </a:moveTo>
                <a:arcTo wR="1637" hR="1637" stAng="16200000" swAng="-5400000"/>
                <a:lnTo>
                  <a:pt x="0" y="66488"/>
                </a:lnTo>
                <a:arcTo wR="1637" hR="1637" stAng="10800000" swAng="-5400000"/>
                <a:lnTo>
                  <a:pt x="19963" y="68125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่งเสริมสนับสนุ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พัฒนา แล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ควบคุมกำกับ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คุณ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มาตรฐา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ด้านอาคา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ถานที่ใ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ถานบริกา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ุขภาพภาครัฐ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ทุกระดับ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(101,536,000 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บาท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1" name=""/>
          <p:cNvCxnSpPr>
            <a:endCxn id="168" idx="0"/>
          </p:cNvCxnSpPr>
          <p:nvPr/>
        </p:nvCxnSpPr>
        <p:spPr>
          <a:xfrm rot="5400000">
            <a:off x="1193760" y="5063040"/>
            <a:ext cx="229320" cy="516600"/>
          </a:xfrm>
          <a:prstGeom prst="curvedConnector3">
            <a:avLst>
              <a:gd name="adj1" fmla="val 23584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endCxn id="165" idx="0"/>
          </p:cNvCxnSpPr>
          <p:nvPr/>
        </p:nvCxnSpPr>
        <p:spPr>
          <a:xfrm flipH="1" rot="16200000">
            <a:off x="2974320" y="4101480"/>
            <a:ext cx="229320" cy="2439720"/>
          </a:xfrm>
          <a:prstGeom prst="curvedConnector3">
            <a:avLst>
              <a:gd name="adj1" fmla="val 23584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endCxn id="169" idx="0"/>
          </p:cNvCxnSpPr>
          <p:nvPr/>
        </p:nvCxnSpPr>
        <p:spPr>
          <a:xfrm flipH="1" rot="16200000">
            <a:off x="1532160" y="5306400"/>
            <a:ext cx="229320" cy="29880"/>
          </a:xfrm>
          <a:prstGeom prst="curvedConnector3">
            <a:avLst>
              <a:gd name="adj1" fmla="val 23584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endCxn id="170" idx="0"/>
          </p:cNvCxnSpPr>
          <p:nvPr/>
        </p:nvCxnSpPr>
        <p:spPr>
          <a:xfrm flipH="1" rot="16200000">
            <a:off x="1869840" y="5031360"/>
            <a:ext cx="229320" cy="579960"/>
          </a:xfrm>
          <a:prstGeom prst="curvedConnector3">
            <a:avLst>
              <a:gd name="adj1" fmla="val 23584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endCxn id="163" idx="0"/>
          </p:cNvCxnSpPr>
          <p:nvPr/>
        </p:nvCxnSpPr>
        <p:spPr>
          <a:xfrm flipH="1" rot="16200000">
            <a:off x="2604960" y="5095800"/>
            <a:ext cx="153000" cy="527400"/>
          </a:xfrm>
          <a:prstGeom prst="curvedConnector3">
            <a:avLst>
              <a:gd name="adj1" fmla="val 22877"/>
            </a:avLst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endCxn id="164" idx="0"/>
          </p:cNvCxnSpPr>
          <p:nvPr/>
        </p:nvCxnSpPr>
        <p:spPr>
          <a:xfrm flipH="1" rot="16200000">
            <a:off x="2617200" y="4426200"/>
            <a:ext cx="229320" cy="1790280"/>
          </a:xfrm>
          <a:prstGeom prst="curvedConnector3">
            <a:avLst>
              <a:gd name="adj1" fmla="val 23584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7" idx="0"/>
          </p:cNvCxnSpPr>
          <p:nvPr/>
        </p:nvCxnSpPr>
        <p:spPr>
          <a:xfrm flipH="1" rot="16200000">
            <a:off x="4899240" y="4836600"/>
            <a:ext cx="229320" cy="969480"/>
          </a:xfrm>
          <a:prstGeom prst="curvedConnector3">
            <a:avLst>
              <a:gd name="adj1" fmla="val 23584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>
            <a:off x="8945640" y="5969160"/>
            <a:ext cx="969840" cy="1143000"/>
          </a:xfrm>
          <a:prstGeom prst="rect">
            <a:avLst/>
          </a:prstGeom>
          <a:solidFill>
            <a:srgbClr val="3399ff"/>
          </a:solidFill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ffffff"/>
                </a:solidFill>
                <a:latin typeface="Arial"/>
                <a:cs typeface="DilleniaUPC"/>
              </a:rPr>
              <a:t>จัดทำโดยกลุ่มนโยบายและแผน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ffffff"/>
                </a:solidFill>
                <a:latin typeface="Arial"/>
                <a:cs typeface="DilleniaUPC"/>
              </a:rPr>
              <a:t>สำนักบริหาร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00" spc="-1" strike="noStrike">
                <a:solidFill>
                  <a:srgbClr val="ffffff"/>
                </a:solidFill>
                <a:latin typeface="Arial"/>
                <a:cs typeface="DilleniaUPC"/>
              </a:rPr>
              <a:t>ปรับปรุง </a:t>
            </a:r>
            <a:r>
              <a:rPr b="1" lang="th-TH" sz="900" spc="-1" strike="noStrike">
                <a:solidFill>
                  <a:srgbClr val="ffffff"/>
                </a:solidFill>
                <a:latin typeface="Arial"/>
                <a:ea typeface="DilleniaUPC"/>
              </a:rPr>
              <a:t>13 </a:t>
            </a:r>
            <a:r>
              <a:rPr b="1" lang="th-TH" sz="900" spc="-1" strike="noStrike">
                <a:solidFill>
                  <a:srgbClr val="ffffff"/>
                </a:solidFill>
                <a:latin typeface="Arial"/>
                <a:cs typeface="DilleniaUPC"/>
              </a:rPr>
              <a:t>ส</a:t>
            </a:r>
            <a:r>
              <a:rPr b="1" lang="th-TH" sz="900" spc="-1" strike="noStrike">
                <a:solidFill>
                  <a:srgbClr val="ffffff"/>
                </a:solidFill>
                <a:latin typeface="Arial"/>
                <a:ea typeface="DilleniaUPC"/>
              </a:rPr>
              <a:t>.</a:t>
            </a:r>
            <a:r>
              <a:rPr b="1" lang="th-TH" sz="900" spc="-1" strike="noStrike">
                <a:solidFill>
                  <a:srgbClr val="ffffff"/>
                </a:solidFill>
                <a:latin typeface="Arial"/>
                <a:cs typeface="DilleniaUPC"/>
              </a:rPr>
              <a:t>ค</a:t>
            </a:r>
            <a:r>
              <a:rPr b="1" lang="th-TH" sz="900" spc="-1" strike="noStrike">
                <a:solidFill>
                  <a:srgbClr val="ffffff"/>
                </a:solidFill>
                <a:latin typeface="Arial"/>
                <a:ea typeface="DilleniaUPC"/>
              </a:rPr>
              <a:t>. 5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 u="sng">
                <a:solidFill>
                  <a:srgbClr val="ffffff"/>
                </a:solidFill>
                <a:uFillTx/>
                <a:latin typeface="Arial"/>
                <a:ea typeface="DilleniaUPC"/>
              </a:rPr>
              <a:t>(755,901,000 </a:t>
            </a:r>
            <a:r>
              <a:rPr b="1" lang="th-TH" sz="1000" spc="-1" strike="noStrike" u="sng">
                <a:solidFill>
                  <a:srgbClr val="ffffff"/>
                </a:solidFill>
                <a:uFillTx/>
                <a:latin typeface="Arial"/>
                <a:cs typeface="DilleniaUPC"/>
              </a:rPr>
              <a:t>บาท</a:t>
            </a:r>
            <a:r>
              <a:rPr b="1" lang="th-TH" sz="1000" spc="-1" strike="noStrike" u="sng">
                <a:solidFill>
                  <a:srgbClr val="ffffff"/>
                </a:solidFill>
                <a:uFillTx/>
                <a:latin typeface="Arial"/>
                <a:ea typeface="DilleniaUPC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54" idx="2"/>
            <a:endCxn id="160" idx="0"/>
          </p:cNvCxnSpPr>
          <p:nvPr/>
        </p:nvCxnSpPr>
        <p:spPr>
          <a:xfrm flipH="1" rot="16200000">
            <a:off x="6615360" y="5274360"/>
            <a:ext cx="152640" cy="170280"/>
          </a:xfrm>
          <a:prstGeom prst="curvedConnector3">
            <a:avLst>
              <a:gd name="adj1" fmla="val 25295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endCxn id="166" idx="0"/>
          </p:cNvCxnSpPr>
          <p:nvPr/>
        </p:nvCxnSpPr>
        <p:spPr>
          <a:xfrm flipH="1" rot="16200000">
            <a:off x="5779440" y="5085720"/>
            <a:ext cx="229320" cy="471240"/>
          </a:xfrm>
          <a:prstGeom prst="curvedConnector3">
            <a:avLst>
              <a:gd name="adj1" fmla="val 23584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7753320" y="5435640"/>
            <a:ext cx="511200" cy="1828800"/>
          </a:xfrm>
          <a:custGeom>
            <a:avLst/>
            <a:gdLst>
              <a:gd name="textAreaLeft" fmla="*/ 11160 w 511200"/>
              <a:gd name="textAreaRight" fmla="*/ 500040 w 511200"/>
              <a:gd name="textAreaTop" fmla="*/ 11160 h 1828800"/>
              <a:gd name="textAreaBottom" fmla="*/ 1817640 h 1828800"/>
            </a:gdLst>
            <a:ahLst/>
            <a:rect l="textAreaLeft" t="textAreaTop" r="textAreaRight" b="textAreaBottom"/>
            <a:pathLst>
              <a:path w="21600" h="77234">
                <a:moveTo>
                  <a:pt x="1637" y="0"/>
                </a:moveTo>
                <a:arcTo wR="1637" hR="1637" stAng="16200000" swAng="-5400000"/>
                <a:lnTo>
                  <a:pt x="0" y="75597"/>
                </a:lnTo>
                <a:arcTo wR="1637" hR="1637" stAng="10800000" swAng="-5400000"/>
                <a:lnTo>
                  <a:pt x="19963" y="77234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พัฒน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ศักย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อาสาสมัค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สาธารณสุ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ประจ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หมู่บ้า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(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อสม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.)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ใ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การเฝ้าร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วังโรคแล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ดูแลผู้ป่วย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ในชุมช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(45,000,000 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บาท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50200" y="5435640"/>
            <a:ext cx="509760" cy="1828800"/>
          </a:xfrm>
          <a:custGeom>
            <a:avLst/>
            <a:gdLst>
              <a:gd name="textAreaLeft" fmla="*/ 11160 w 509760"/>
              <a:gd name="textAreaRight" fmla="*/ 498600 w 509760"/>
              <a:gd name="textAreaTop" fmla="*/ 11160 h 1828800"/>
              <a:gd name="textAreaBottom" fmla="*/ 1817640 h 1828800"/>
            </a:gdLst>
            <a:ahLst/>
            <a:rect l="textAreaLeft" t="textAreaTop" r="textAreaRight" b="textAreaBottom"/>
            <a:pathLst>
              <a:path w="21600" h="77452">
                <a:moveTo>
                  <a:pt x="1637" y="0"/>
                </a:moveTo>
                <a:arcTo wR="1637" hR="1637" stAng="16200000" swAng="-5400000"/>
                <a:lnTo>
                  <a:pt x="0" y="75815"/>
                </a:lnTo>
                <a:arcTo wR="1637" hR="1637" stAng="10800000" swAng="-5400000"/>
                <a:lnTo>
                  <a:pt x="19963" y="77452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พัฒน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ศักยภาพ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อสม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ในการ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ป้องกั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โรคที่เป็น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ภัยคุกคาม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(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ไข้หวัด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นก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/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ไข้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หวัดใหญ่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(20,298,000 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cs typeface="DilleniaUPC"/>
              </a:rPr>
              <a:t>บาท</a:t>
            </a:r>
            <a:r>
              <a:rPr b="1" lang="th-TH" sz="800" spc="-1" strike="noStrike">
                <a:solidFill>
                  <a:srgbClr val="000000"/>
                </a:solidFill>
                <a:latin typeface="Angsana New"/>
                <a:ea typeface="DilleniaUPC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91160" y="5435640"/>
            <a:ext cx="425520" cy="1828800"/>
          </a:xfrm>
          <a:custGeom>
            <a:avLst/>
            <a:gdLst>
              <a:gd name="textAreaLeft" fmla="*/ 9360 w 425520"/>
              <a:gd name="textAreaRight" fmla="*/ 416160 w 425520"/>
              <a:gd name="textAreaTop" fmla="*/ 9360 h 1828800"/>
              <a:gd name="textAreaBottom" fmla="*/ 1819440 h 1828800"/>
            </a:gdLst>
            <a:ahLst/>
            <a:rect l="textAreaLeft" t="textAreaTop" r="textAreaRight" b="textAreaBottom"/>
            <a:pathLst>
              <a:path w="21600" h="92772">
                <a:moveTo>
                  <a:pt x="1637" y="0"/>
                </a:moveTo>
                <a:arcTo wR="1637" hR="1637" stAng="16200000" swAng="-5400000"/>
                <a:lnTo>
                  <a:pt x="0" y="91135"/>
                </a:lnTo>
                <a:arcTo wR="1637" hR="1637" stAng="10800000" swAng="-5400000"/>
                <a:lnTo>
                  <a:pt x="19963" y="92772"/>
                </a:lnTo>
                <a:arcTo wR="1637" hR="1637" stAng="5400000" swAng="-5400000"/>
                <a:lnTo>
                  <a:pt x="21600" y="1637"/>
                </a:lnTo>
                <a:arcTo wR="1637" hR="1637" stAng="0" swAng="-5400000"/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28440">
            <a:solidFill>
              <a:srgbClr val="ff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700" spc="-1" strike="noStrike">
                <a:solidFill>
                  <a:srgbClr val="000000"/>
                </a:solidFill>
                <a:latin typeface="Angsana New"/>
                <a:cs typeface="DilleniaUPC"/>
              </a:rPr>
              <a:t>พัฒนาบริการ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700" spc="-1" strike="noStrike">
                <a:solidFill>
                  <a:srgbClr val="000000"/>
                </a:solidFill>
                <a:latin typeface="Angsana New"/>
                <a:cs typeface="DilleniaUPC"/>
              </a:rPr>
              <a:t>ตติยภูมิ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700" spc="-1" strike="noStrike">
                <a:solidFill>
                  <a:srgbClr val="000000"/>
                </a:solidFill>
                <a:latin typeface="Angsana New"/>
                <a:cs typeface="DilleniaUPC"/>
              </a:rPr>
              <a:t>ศูนย์โรค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700" spc="-1" strike="noStrike">
                <a:solidFill>
                  <a:srgbClr val="000000"/>
                </a:solidFill>
                <a:latin typeface="Angsana New"/>
                <a:cs typeface="DilleniaUPC"/>
              </a:rPr>
              <a:t>หัวใจ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700" spc="-1" strike="noStrike">
                <a:solidFill>
                  <a:srgbClr val="000000"/>
                </a:solidFill>
                <a:latin typeface="Angsana New"/>
                <a:cs typeface="DilleniaUPC"/>
              </a:rPr>
              <a:t>ศูนย์โรค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700" spc="-1" strike="noStrike">
                <a:solidFill>
                  <a:srgbClr val="000000"/>
                </a:solidFill>
                <a:latin typeface="Angsana New"/>
                <a:cs typeface="DilleniaUPC"/>
              </a:rPr>
              <a:t>มะเร็ง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700" spc="-1" strike="noStrike">
                <a:solidFill>
                  <a:srgbClr val="000000"/>
                </a:solidFill>
                <a:latin typeface="Angsana New"/>
                <a:cs typeface="DilleniaUPC"/>
              </a:rPr>
              <a:t>และเครือ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700" spc="-1" strike="noStrike">
                <a:solidFill>
                  <a:srgbClr val="000000"/>
                </a:solidFill>
                <a:latin typeface="Angsana New"/>
                <a:cs typeface="DilleniaUPC"/>
              </a:rPr>
              <a:t>ข่ายควบ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700" spc="-1" strike="noStrike">
                <a:solidFill>
                  <a:srgbClr val="000000"/>
                </a:solidFill>
                <a:latin typeface="Angsana New"/>
                <a:cs typeface="DilleniaUPC"/>
              </a:rPr>
              <a:t>คุมการ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700" spc="-1" strike="noStrike">
                <a:solidFill>
                  <a:srgbClr val="000000"/>
                </a:solidFill>
                <a:latin typeface="Angsana New"/>
                <a:cs typeface="DilleniaUPC"/>
              </a:rPr>
              <a:t>บาดเจ็บ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700" spc="-1" strike="noStrike">
                <a:solidFill>
                  <a:srgbClr val="000000"/>
                </a:solidFill>
                <a:latin typeface="Angsana New"/>
                <a:cs typeface="DilleniaUPC"/>
              </a:rPr>
              <a:t>แห่งชาติ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700" spc="-1" strike="noStrike">
                <a:solidFill>
                  <a:srgbClr val="000000"/>
                </a:solidFill>
                <a:latin typeface="Angsana New"/>
                <a:cs typeface="DilleniaUPC"/>
              </a:rPr>
              <a:t>พ</a:t>
            </a:r>
            <a:r>
              <a:rPr b="1" lang="th-TH" sz="700" spc="-1" strike="noStrike">
                <a:solidFill>
                  <a:srgbClr val="000000"/>
                </a:solidFill>
                <a:latin typeface="Angsana New"/>
                <a:ea typeface="DilleniaUPC"/>
              </a:rPr>
              <a:t>.</a:t>
            </a:r>
            <a:r>
              <a:rPr b="1" lang="th-TH" sz="700" spc="-1" strike="noStrike">
                <a:solidFill>
                  <a:srgbClr val="000000"/>
                </a:solidFill>
                <a:latin typeface="Angsana New"/>
                <a:cs typeface="DilleniaUPC"/>
              </a:rPr>
              <a:t>ศ</a:t>
            </a:r>
            <a:r>
              <a:rPr b="1" lang="th-TH" sz="700" spc="-1" strike="noStrike">
                <a:solidFill>
                  <a:srgbClr val="000000"/>
                </a:solidFill>
                <a:latin typeface="Angsana New"/>
                <a:ea typeface="DilleniaUPC"/>
              </a:rPr>
              <a:t>.2551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700" spc="-1" strike="noStrike">
                <a:solidFill>
                  <a:srgbClr val="000000"/>
                </a:solidFill>
                <a:latin typeface="Angsana New"/>
                <a:ea typeface="DilleniaUPC"/>
              </a:rPr>
              <a:t>-2554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700" spc="-1" strike="noStrike">
                <a:solidFill>
                  <a:srgbClr val="000000"/>
                </a:solidFill>
                <a:latin typeface="Angsana New"/>
                <a:ea typeface="DilleniaUPC"/>
              </a:rPr>
              <a:t>(-  </a:t>
            </a:r>
            <a:r>
              <a:rPr b="1" lang="th-TH" sz="700" spc="-1" strike="noStrike">
                <a:solidFill>
                  <a:srgbClr val="000000"/>
                </a:solidFill>
                <a:latin typeface="Angsana New"/>
                <a:cs typeface="DilleniaUPC"/>
              </a:rPr>
              <a:t>บาท</a:t>
            </a:r>
            <a:r>
              <a:rPr b="1" lang="th-TH" sz="700" spc="-1" strike="noStrike">
                <a:solidFill>
                  <a:srgbClr val="000000"/>
                </a:solidFill>
                <a:latin typeface="Angsana New"/>
                <a:ea typeface="DilleniaUPC"/>
              </a:rPr>
              <a:t>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4" name=""/>
          <p:cNvCxnSpPr>
            <a:endCxn id="183" idx="0"/>
          </p:cNvCxnSpPr>
          <p:nvPr/>
        </p:nvCxnSpPr>
        <p:spPr>
          <a:xfrm flipH="1" rot="16200000">
            <a:off x="3957840" y="4489560"/>
            <a:ext cx="214920" cy="1677960"/>
          </a:xfrm>
          <a:prstGeom prst="curvedConnector3">
            <a:avLst>
              <a:gd name="adj1" fmla="val 19966"/>
            </a:avLst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cxnSp>
        <p:nvCxnSpPr>
          <p:cNvPr id="185" name=""/>
          <p:cNvCxnSpPr>
            <a:stCxn id="158" idx="2"/>
            <a:endCxn id="159" idx="0"/>
          </p:cNvCxnSpPr>
          <p:nvPr/>
        </p:nvCxnSpPr>
        <p:spPr>
          <a:xfrm rot="5400000">
            <a:off x="7535160" y="5090760"/>
            <a:ext cx="222480" cy="468000"/>
          </a:xfrm>
          <a:prstGeom prst="curvedConnector3">
            <a:avLst>
              <a:gd name="adj1" fmla="val 27066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58" idx="2"/>
            <a:endCxn id="181" idx="0"/>
          </p:cNvCxnSpPr>
          <p:nvPr/>
        </p:nvCxnSpPr>
        <p:spPr>
          <a:xfrm flipH="1" rot="16200000">
            <a:off x="7833600" y="5259960"/>
            <a:ext cx="222480" cy="128880"/>
          </a:xfrm>
          <a:prstGeom prst="curvedConnector3">
            <a:avLst>
              <a:gd name="adj1" fmla="val 23987"/>
            </a:avLst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cxnSp>
        <p:nvCxnSpPr>
          <p:cNvPr id="187" name=""/>
          <p:cNvCxnSpPr>
            <a:stCxn id="158" idx="2"/>
            <a:endCxn id="182" idx="0"/>
          </p:cNvCxnSpPr>
          <p:nvPr/>
        </p:nvCxnSpPr>
        <p:spPr>
          <a:xfrm flipH="1" rot="16200000">
            <a:off x="8131680" y="4961880"/>
            <a:ext cx="222480" cy="725040"/>
          </a:xfrm>
          <a:prstGeom prst="curvedConnector3">
            <a:avLst>
              <a:gd name="adj1" fmla="val 23987"/>
            </a:avLst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sp>
        <p:nvSpPr>
          <p:cNvPr id="188" name=""/>
          <p:cNvSpPr/>
          <p:nvPr/>
        </p:nvSpPr>
        <p:spPr>
          <a:xfrm>
            <a:off x="9371160" y="5207040"/>
            <a:ext cx="107640" cy="152280"/>
          </a:xfrm>
          <a:prstGeom prst="downArrow">
            <a:avLst>
              <a:gd name="adj1" fmla="val 50000"/>
              <a:gd name="adj2" fmla="val 3536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540720" y="4521240"/>
            <a:ext cx="86040" cy="152280"/>
          </a:xfrm>
          <a:prstGeom prst="downArrow">
            <a:avLst>
              <a:gd name="adj1" fmla="val 50000"/>
              <a:gd name="adj2" fmla="val 4424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626760" y="3913200"/>
            <a:ext cx="107640" cy="150840"/>
          </a:xfrm>
          <a:prstGeom prst="downArrow">
            <a:avLst>
              <a:gd name="adj1" fmla="val 50000"/>
              <a:gd name="adj2" fmla="val 3503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713880" y="3378240"/>
            <a:ext cx="106560" cy="152280"/>
          </a:xfrm>
          <a:prstGeom prst="downArrow">
            <a:avLst>
              <a:gd name="adj1" fmla="val 50000"/>
              <a:gd name="adj2" fmla="val 3572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371160" y="1701720"/>
            <a:ext cx="107640" cy="152640"/>
          </a:xfrm>
          <a:prstGeom prst="downArrow">
            <a:avLst>
              <a:gd name="adj1" fmla="val 50000"/>
              <a:gd name="adj2" fmla="val 3545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713880" y="2387520"/>
            <a:ext cx="106560" cy="152640"/>
          </a:xfrm>
          <a:prstGeom prst="downArrow">
            <a:avLst>
              <a:gd name="adj1" fmla="val 50000"/>
              <a:gd name="adj2" fmla="val 3581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180280" y="1244520"/>
            <a:ext cx="108000" cy="152640"/>
          </a:xfrm>
          <a:prstGeom prst="downArrow">
            <a:avLst>
              <a:gd name="adj1" fmla="val 50000"/>
              <a:gd name="adj2" fmla="val 3533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24360" y="1244520"/>
            <a:ext cx="108000" cy="152640"/>
          </a:xfrm>
          <a:prstGeom prst="downArrow">
            <a:avLst>
              <a:gd name="adj1" fmla="val 50000"/>
              <a:gd name="adj2" fmla="val 3533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97400" y="1701720"/>
            <a:ext cx="107640" cy="152640"/>
          </a:xfrm>
          <a:prstGeom prst="downArrow">
            <a:avLst>
              <a:gd name="adj1" fmla="val 50000"/>
              <a:gd name="adj2" fmla="val 3545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41840" y="1701720"/>
            <a:ext cx="108000" cy="152640"/>
          </a:xfrm>
          <a:prstGeom prst="downArrow">
            <a:avLst>
              <a:gd name="adj1" fmla="val 50000"/>
              <a:gd name="adj2" fmla="val 3533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2387520"/>
            <a:ext cx="108000" cy="152640"/>
          </a:xfrm>
          <a:prstGeom prst="downArrow">
            <a:avLst>
              <a:gd name="adj1" fmla="val 50000"/>
              <a:gd name="adj2" fmla="val 3533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94280" y="2387520"/>
            <a:ext cx="85680" cy="152640"/>
          </a:xfrm>
          <a:prstGeom prst="downArrow">
            <a:avLst>
              <a:gd name="adj1" fmla="val 50000"/>
              <a:gd name="adj2" fmla="val 4453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44960" y="2387520"/>
            <a:ext cx="108000" cy="152640"/>
          </a:xfrm>
          <a:prstGeom prst="downArrow">
            <a:avLst>
              <a:gd name="adj1" fmla="val 50000"/>
              <a:gd name="adj2" fmla="val 3533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rot="19047000">
            <a:off x="6903720" y="2352600"/>
            <a:ext cx="105840" cy="225360"/>
          </a:xfrm>
          <a:prstGeom prst="downArrow">
            <a:avLst>
              <a:gd name="adj1" fmla="val 50000"/>
              <a:gd name="adj2" fmla="val 5323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28640" y="3378240"/>
            <a:ext cx="106560" cy="152280"/>
          </a:xfrm>
          <a:prstGeom prst="downArrow">
            <a:avLst>
              <a:gd name="adj1" fmla="val 50000"/>
              <a:gd name="adj2" fmla="val 3572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64200" y="3378240"/>
            <a:ext cx="85680" cy="152280"/>
          </a:xfrm>
          <a:prstGeom prst="downArrow">
            <a:avLst>
              <a:gd name="adj1" fmla="val 50000"/>
              <a:gd name="adj2" fmla="val 4443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98560" y="3987720"/>
            <a:ext cx="106560" cy="152640"/>
          </a:xfrm>
          <a:prstGeom prst="downArrow">
            <a:avLst>
              <a:gd name="adj1" fmla="val 50000"/>
              <a:gd name="adj2" fmla="val 3581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 rot="19047000">
            <a:off x="2983680" y="3913200"/>
            <a:ext cx="111240" cy="223920"/>
          </a:xfrm>
          <a:prstGeom prst="downArrow">
            <a:avLst>
              <a:gd name="adj1" fmla="val 50000"/>
              <a:gd name="adj2" fmla="val 50324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rot="19047000">
            <a:off x="4435560" y="3912840"/>
            <a:ext cx="108000" cy="223920"/>
          </a:xfrm>
          <a:prstGeom prst="downArrow">
            <a:avLst>
              <a:gd name="adj1" fmla="val 50000"/>
              <a:gd name="adj2" fmla="val 5183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44960" y="3378240"/>
            <a:ext cx="108000" cy="152280"/>
          </a:xfrm>
          <a:prstGeom prst="downArrow">
            <a:avLst>
              <a:gd name="adj1" fmla="val 50000"/>
              <a:gd name="adj2" fmla="val 3525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83400" y="3378240"/>
            <a:ext cx="108000" cy="152280"/>
          </a:xfrm>
          <a:prstGeom prst="downArrow">
            <a:avLst>
              <a:gd name="adj1" fmla="val 50000"/>
              <a:gd name="adj2" fmla="val 3525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rot="19047000">
            <a:off x="6137640" y="3913200"/>
            <a:ext cx="106560" cy="223920"/>
          </a:xfrm>
          <a:prstGeom prst="downArrow">
            <a:avLst>
              <a:gd name="adj1" fmla="val 50000"/>
              <a:gd name="adj2" fmla="val 52534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008920" y="3913200"/>
            <a:ext cx="85680" cy="150840"/>
          </a:xfrm>
          <a:prstGeom prst="downArrow">
            <a:avLst>
              <a:gd name="adj1" fmla="val 50000"/>
              <a:gd name="adj2" fmla="val 4401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00240" y="4521240"/>
            <a:ext cx="109440" cy="152280"/>
          </a:xfrm>
          <a:prstGeom prst="downArrow">
            <a:avLst>
              <a:gd name="adj1" fmla="val 50000"/>
              <a:gd name="adj2" fmla="val 3478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 rot="19047000">
            <a:off x="2391840" y="4520880"/>
            <a:ext cx="108000" cy="225360"/>
          </a:xfrm>
          <a:prstGeom prst="downArrow">
            <a:avLst>
              <a:gd name="adj1" fmla="val 50000"/>
              <a:gd name="adj2" fmla="val 521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rot="19047000">
            <a:off x="3752280" y="4521240"/>
            <a:ext cx="109440" cy="225360"/>
          </a:xfrm>
          <a:prstGeom prst="downArrow">
            <a:avLst>
              <a:gd name="adj1" fmla="val 50000"/>
              <a:gd name="adj2" fmla="val 5148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116680" y="4521240"/>
            <a:ext cx="107640" cy="152280"/>
          </a:xfrm>
          <a:prstGeom prst="downArrow">
            <a:avLst>
              <a:gd name="adj1" fmla="val 50000"/>
              <a:gd name="adj2" fmla="val 3536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86480" y="4521240"/>
            <a:ext cx="76320" cy="152280"/>
          </a:xfrm>
          <a:prstGeom prst="downArrow">
            <a:avLst>
              <a:gd name="adj1" fmla="val 50000"/>
              <a:gd name="adj2" fmla="val 4988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180280" y="4521240"/>
            <a:ext cx="108000" cy="152280"/>
          </a:xfrm>
          <a:prstGeom prst="downArrow">
            <a:avLst>
              <a:gd name="adj1" fmla="val 50000"/>
              <a:gd name="adj2" fmla="val 3525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1720" y="63360"/>
            <a:ext cx="14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Angsana New"/>
                <a:ea typeface="Angsana New"/>
              </a:rPr>
              <a:t>- 159 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11720" y="7223040"/>
            <a:ext cx="14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Angsana New"/>
                <a:ea typeface="Angsana New"/>
              </a:rPr>
              <a:t>- 159 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4098-056B-43AC-B4CC-FB81AEED066F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5T17:41:46Z</dcterms:created>
  <dc:creator>BKK</dc:creator>
  <dc:description/>
  <dc:language>en-US</dc:language>
  <cp:lastModifiedBy>Microsoft</cp:lastModifiedBy>
  <dcterms:modified xsi:type="dcterms:W3CDTF">2008-11-08T13:54:15Z</dcterms:modified>
  <cp:revision>790</cp:revision>
  <dc:subject/>
  <dc:title>Slide 1</dc:title>
</cp:coreProperties>
</file>